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2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14.png" ContentType="image/png"/>
  <Override PartName="/ppt/media/image20.png" ContentType="image/png"/>
  <Override PartName="/ppt/media/image21.png" ContentType="image/png"/>
  <Override PartName="/ppt/media/image58.png" ContentType="image/png"/>
  <Override PartName="/ppt/media/image22.png" ContentType="image/png"/>
  <Override PartName="/ppt/media/image59.png" ContentType="image/png"/>
  <Override PartName="/ppt/media/image23.png" ContentType="image/png"/>
  <Override PartName="/ppt/media/image60.png" ContentType="image/png"/>
  <Override PartName="/ppt/media/image24.png" ContentType="image/png"/>
  <Override PartName="/ppt/media/image61.png" ContentType="image/png"/>
  <Override PartName="/ppt/media/image25.png" ContentType="image/png"/>
  <Override PartName="/ppt/media/image62.png" ContentType="image/png"/>
  <Override PartName="/ppt/media/image63.png" ContentType="image/png"/>
  <Override PartName="/ppt/media/image64.png" ContentType="image/png"/>
  <Override PartName="/ppt/media/image65.png" ContentType="image/png"/>
  <Override PartName="/ppt/media/image78.png" ContentType="image/png"/>
  <Override PartName="/ppt/media/image31.png" ContentType="image/png"/>
  <Override PartName="/ppt/media/image68.png" ContentType="image/png"/>
  <Override PartName="/ppt/media/image13.png" ContentType="image/png"/>
  <Override PartName="/ppt/media/image1.png" ContentType="image/png"/>
  <Override PartName="/ppt/media/image66.png" ContentType="image/png"/>
  <Override PartName="/ppt/media/image77.png" ContentType="image/png"/>
  <Override PartName="/ppt/media/image76.png" ContentType="image/png"/>
  <Override PartName="/ppt/media/image75.png" ContentType="image/png"/>
  <Override PartName="/ppt/media/image74.png" ContentType="image/png"/>
  <Override PartName="/ppt/media/image73.png" ContentType="image/png"/>
  <Override PartName="/ppt/media/image72.png" ContentType="image/png"/>
  <Override PartName="/ppt/media/image71.png" ContentType="image/png"/>
  <Override PartName="/ppt/media/image57.png" ContentType="image/png"/>
  <Override PartName="/ppt/media/image2.wmf" ContentType="image/x-wmf"/>
  <Override PartName="/ppt/media/image29.png" ContentType="image/png"/>
  <Override PartName="/ppt/media/image69.png" ContentType="image/png"/>
  <Override PartName="/ppt/media/image70.png" ContentType="image/png"/>
  <Override PartName="/ppt/media/image28.png" ContentType="image/png"/>
  <Override PartName="/ppt/media/image67.png" ContentType="image/png"/>
  <Override PartName="/ppt/media/image26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</p:sldIdLst>
  <p:sldSz cx="9144000" cy="6858000"/>
  <p:notesSz cx="6732588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E4F71-8804-4780-B5C5-6F9E06E8F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9B43E-82F8-485B-BB02-B6A8A794F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C8285-C787-40E8-B7AB-54AC8AF51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DA69A-776B-43C6-9E1D-E5BD15AC3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A81B7-D385-4B10-B808-27F392352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1AFFA-1B2C-425A-9BE4-D931D3ED4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D62A1-6FD0-4A9B-811D-BAA2214B3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837A4-4FD1-4A15-95F9-8ADF9EEA7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1670A-D072-4270-979B-D6E025644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B1C7B-3F57-44F0-8538-2060B331E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C2535-F73D-4AD3-B0F4-81B4CA5FC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D3018-7011-419E-9C76-024CC7495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96AA0-0C20-4E9A-A15B-0710D678D479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Layout" Target="../slideLayouts/slideLayout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slideLayout" Target="../slideLayouts/slideLayout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slideLayout" Target="../slideLayouts/slideLayout5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slideLayout" Target="../slideLayouts/slideLayout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slideLayout" Target="../slideLayouts/slideLayout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slideLayout" Target="../slideLayouts/slideLayout5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slideLayout" Target="../slideLayouts/slideLayout5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slideLayout" Target="../slideLayouts/slideLayout5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slideLayout" Target="../slideLayouts/slideLayout5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slideLayout" Target="../slideLayouts/slideLayout5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66.png"/><Relationship Id="rId2" Type="http://schemas.openxmlformats.org/officeDocument/2006/relationships/slideLayout" Target="../slideLayouts/slideLayout5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67.png"/><Relationship Id="rId2" Type="http://schemas.openxmlformats.org/officeDocument/2006/relationships/slideLayout" Target="../slideLayouts/slideLayout5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68.png"/><Relationship Id="rId2" Type="http://schemas.openxmlformats.org/officeDocument/2006/relationships/slideLayout" Target="../slideLayouts/slideLayout5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69.png"/><Relationship Id="rId2" Type="http://schemas.openxmlformats.org/officeDocument/2006/relationships/slideLayout" Target="../slideLayouts/slideLayout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70.png"/><Relationship Id="rId2" Type="http://schemas.openxmlformats.org/officeDocument/2006/relationships/slideLayout" Target="../slideLayouts/slideLayout5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71.png"/><Relationship Id="rId2" Type="http://schemas.openxmlformats.org/officeDocument/2006/relationships/slideLayout" Target="../slideLayouts/slideLayout5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72.png"/><Relationship Id="rId2" Type="http://schemas.openxmlformats.org/officeDocument/2006/relationships/slideLayout" Target="../slideLayouts/slideLayout5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73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74.png"/><Relationship Id="rId2" Type="http://schemas.openxmlformats.org/officeDocument/2006/relationships/slideLayout" Target="../slideLayouts/slideLayout5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75.png"/><Relationship Id="rId2" Type="http://schemas.openxmlformats.org/officeDocument/2006/relationships/slideLayout" Target="../slideLayouts/slideLayout5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76.png"/><Relationship Id="rId2" Type="http://schemas.openxmlformats.org/officeDocument/2006/relationships/slideLayout" Target="../slideLayouts/slideLayout5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77.png"/><Relationship Id="rId2" Type="http://schemas.openxmlformats.org/officeDocument/2006/relationships/slideLayout" Target="../slideLayouts/slideLayout5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78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74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Century Gothic"/>
              </a:rPr>
              <a:t>Funzioni per la gesti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2819520" y="685800"/>
          <a:ext cx="3733560" cy="608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19520" y="685800"/>
                    <a:ext cx="3733560" cy="60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" name=""/>
          <p:cNvSpPr/>
          <p:nvPr/>
        </p:nvSpPr>
        <p:spPr>
          <a:xfrm>
            <a:off x="685800" y="175248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AGRAFE AZIENDE AGRICO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19920" y="5257800"/>
            <a:ext cx="19047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Marzo 20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ggiornamento  n.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5562720"/>
            <a:ext cx="2057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Century Gothic"/>
              </a:rPr>
              <a:t>Servizio Informativo Agricolo Regiona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5257800"/>
            <a:ext cx="2667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SESSORATO AGRICOLTU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8BF77-78F9-4DC8-9184-E73575940EB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entury Gothic"/>
              </a:rPr>
              <a:t>Messaggistica (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7620120" cy="57150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3657600" y="4267080"/>
            <a:ext cx="2209680" cy="762120"/>
          </a:xfrm>
          <a:prstGeom prst="wedgeRectCallout">
            <a:avLst>
              <a:gd name="adj1" fmla="val -91379"/>
              <a:gd name="adj2" fmla="val -159791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809880" y="4343400"/>
            <a:ext cx="2133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entury Gothic"/>
              </a:rPr>
              <a:t>Cliccare qui per accedere al testo completo del messagg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1600200"/>
            <a:ext cx="2133720" cy="762120"/>
          </a:xfrm>
          <a:prstGeom prst="wedgeRectCallout">
            <a:avLst>
              <a:gd name="adj1" fmla="val 70236"/>
              <a:gd name="adj2" fmla="val -4125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295280" y="1676520"/>
            <a:ext cx="2133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entury Gothic"/>
              </a:rPr>
              <a:t>Cliccare qui per uscire dalla Lista Messaggi  e entrare in Anagraf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943600" y="914400"/>
            <a:ext cx="2133720" cy="11430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990720"/>
            <a:ext cx="190476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Elenco dei messaggi inviati dal Gestore Anagrafico Regionale a tutti gli Utenti dell’Anagraf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990720" y="4724280"/>
            <a:ext cx="2133360" cy="12193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143000" y="4800600"/>
            <a:ext cx="19051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N.B. L’elenco è visibile immediatamente solo nell’intervallo tempo in cui il messaggio è valido (data inizio e data fin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0E6D4-A23A-47D0-B594-C64F2156596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entury Gothic"/>
              </a:rPr>
              <a:t>Messaggistica (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914400" y="3429000"/>
            <a:ext cx="1905120" cy="685800"/>
          </a:xfrm>
          <a:prstGeom prst="wedgeRectCallout">
            <a:avLst>
              <a:gd name="adj1" fmla="val -27833"/>
              <a:gd name="adj2" fmla="val -135648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990720" y="3429000"/>
            <a:ext cx="18288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entury Gothic"/>
              </a:rPr>
              <a:t>Cliccare qui per tornare all’elenco dei messagg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791320" y="1371600"/>
            <a:ext cx="2133360" cy="762120"/>
          </a:xfrm>
          <a:prstGeom prst="wedgeRectCallout">
            <a:avLst>
              <a:gd name="adj1" fmla="val -74555"/>
              <a:gd name="adj2" fmla="val 15208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943600" y="1447920"/>
            <a:ext cx="2133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entury Gothic"/>
              </a:rPr>
              <a:t>Cliccare qui per uscire dalla Lista Messaggi  e entrare in Anagraf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943600" y="4572000"/>
            <a:ext cx="2209680" cy="533520"/>
          </a:xfrm>
          <a:prstGeom prst="wedgeRectCallout">
            <a:avLst>
              <a:gd name="adj1" fmla="val -95472"/>
              <a:gd name="adj2" fmla="val 25597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095880" y="4648320"/>
            <a:ext cx="2133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Intervallo di inizio e fine validità del messagg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0707B-F2E0-4F9A-A697-0ACD89CC540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entury Gothic"/>
              </a:rPr>
              <a:t>Ingresso Anagraf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1447920"/>
            <a:ext cx="1600200" cy="1143000"/>
          </a:xfrm>
          <a:prstGeom prst="wedgeRectCallout">
            <a:avLst>
              <a:gd name="adj1" fmla="val 47421"/>
              <a:gd name="adj2" fmla="val 58749"/>
            </a:avLst>
          </a:prstGeom>
          <a:solidFill>
            <a:srgbClr val="e5f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04920" y="1523880"/>
            <a:ext cx="17524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Messaggio di riconoscimento dell’Utente CAA all’ingresso dell’Anagraf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657600" y="3048120"/>
            <a:ext cx="2133720" cy="761760"/>
          </a:xfrm>
          <a:prstGeom prst="wedgeRectCallout">
            <a:avLst>
              <a:gd name="adj1" fmla="val -34152"/>
              <a:gd name="adj2" fmla="val -202291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3124080"/>
            <a:ext cx="2133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entury Gothic"/>
              </a:rPr>
              <a:t>Cliccare qui per accedere all’archivio delle </a:t>
            </a:r>
            <a:r>
              <a:rPr b="1" lang="it-IT" sz="1200" spc="-1" strike="noStrike">
                <a:solidFill>
                  <a:srgbClr val="000000"/>
                </a:solidFill>
                <a:latin typeface="Century Gothic"/>
              </a:rPr>
              <a:t>Aziende Agrico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095880" y="990720"/>
            <a:ext cx="2133720" cy="1295280"/>
          </a:xfrm>
          <a:prstGeom prst="wedgeRectCallout">
            <a:avLst>
              <a:gd name="adj1" fmla="val -112944"/>
              <a:gd name="adj2" fmla="val 17648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172200" y="1066680"/>
            <a:ext cx="2133720" cy="12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entury Gothic"/>
              </a:rPr>
              <a:t>Cliccare qui per accedere ai </a:t>
            </a:r>
            <a:r>
              <a:rPr b="1" lang="it-IT" sz="1200" spc="-1" strike="noStrike">
                <a:solidFill>
                  <a:srgbClr val="000000"/>
                </a:solidFill>
                <a:latin typeface="Century Gothic"/>
              </a:rPr>
              <a:t>servizi </a:t>
            </a:r>
            <a:r>
              <a:rPr b="0" lang="it-IT" sz="1200" spc="-1" strike="noStrike">
                <a:solidFill>
                  <a:srgbClr val="000000"/>
                </a:solidFill>
                <a:latin typeface="Century Gothic"/>
              </a:rPr>
              <a:t>di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75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entury Gothic"/>
              </a:rPr>
              <a:t>ricerca utent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75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entury Gothic"/>
              </a:rPr>
              <a:t>ricerca CAA Local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75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entury Gothic"/>
              </a:rPr>
              <a:t>cambio passwo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75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entury Gothic"/>
              </a:rPr>
              <a:t>archivio messagg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371600" y="6172200"/>
            <a:ext cx="2133720" cy="457200"/>
          </a:xfrm>
          <a:prstGeom prst="wedgeRectCallout">
            <a:avLst>
              <a:gd name="adj1" fmla="val 6175"/>
              <a:gd name="adj2" fmla="val -141666"/>
            </a:avLst>
          </a:prstGeom>
          <a:solidFill>
            <a:srgbClr val="e5f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447920" y="6172200"/>
            <a:ext cx="2133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Nome Utente e CAA Locale di appartenenz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876920" y="6095880"/>
            <a:ext cx="2438280" cy="762120"/>
          </a:xfrm>
          <a:prstGeom prst="wedgeRectCallout">
            <a:avLst>
              <a:gd name="adj1" fmla="val 49282"/>
              <a:gd name="adj2" fmla="val -88958"/>
            </a:avLst>
          </a:prstGeom>
          <a:solidFill>
            <a:srgbClr val="e5f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952880" y="6172200"/>
            <a:ext cx="22100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Pagina con i </a:t>
            </a:r>
            <a:r>
              <a:rPr b="1" lang="en-US" sz="1200" spc="-1" strike="noStrike">
                <a:solidFill>
                  <a:srgbClr val="000000"/>
                </a:solidFill>
                <a:latin typeface="Century Gothic"/>
              </a:rPr>
              <a:t>recapiti dei referenti</a:t>
            </a: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 per assistenza amministrativa e tecn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E0C20-21AB-4B9C-B6D2-B7E1D102522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entury Gothic"/>
              </a:rPr>
              <a:t>Azienda: Ricerca Azien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581280" y="5334120"/>
            <a:ext cx="3581640" cy="1295280"/>
          </a:xfrm>
          <a:prstGeom prst="wedgeRectCallout">
            <a:avLst>
              <a:gd name="adj1" fmla="val -13296"/>
              <a:gd name="adj2" fmla="val -12843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657600" y="5410080"/>
            <a:ext cx="33526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Century Gothic"/>
              </a:rPr>
              <a:t>Ricerca x Lista  Aziende</a:t>
            </a: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la Provincia è obbligatoria; facoltativa è la possibilità di cercare Aziende nel Comune (o parte di esso) e sia per Cognome Titolare o per Denominazione con stringhe che </a:t>
            </a:r>
            <a:r>
              <a:rPr b="0" i="1" lang="en-US" sz="1200" spc="-1" strike="noStrike">
                <a:solidFill>
                  <a:srgbClr val="000000"/>
                </a:solidFill>
                <a:latin typeface="Century Gothic"/>
              </a:rPr>
              <a:t>iniziano per</a:t>
            </a: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 oppure </a:t>
            </a:r>
            <a:r>
              <a:rPr b="0" i="1" lang="en-US" sz="1200" spc="-1" strike="noStrike">
                <a:solidFill>
                  <a:srgbClr val="000000"/>
                </a:solidFill>
                <a:latin typeface="Century Gothic"/>
              </a:rPr>
              <a:t>sono incluse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57200" y="228600"/>
            <a:ext cx="2362320" cy="1295280"/>
          </a:xfrm>
          <a:prstGeom prst="downArrowCallout">
            <a:avLst>
              <a:gd name="adj1" fmla="val 20840"/>
              <a:gd name="adj2" fmla="val 44556"/>
              <a:gd name="adj3" fmla="val 20444"/>
              <a:gd name="adj4" fmla="val 70315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480" y="304920"/>
            <a:ext cx="2210040" cy="74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Century Gothic"/>
              </a:rPr>
              <a:t>Menu ANAGRAF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75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Archivio Azien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75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Iscrizione Azienda al CA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75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Archivio Terren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952880" y="1600200"/>
            <a:ext cx="2362320" cy="10666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029200" y="1676520"/>
            <a:ext cx="21337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Ricerca una o più  Aziende </a:t>
            </a:r>
            <a:r>
              <a:rPr b="1" lang="en-US" sz="1200" spc="-1" strike="noStrike">
                <a:solidFill>
                  <a:srgbClr val="000000"/>
                </a:solidFill>
                <a:latin typeface="Century Gothic"/>
              </a:rPr>
              <a:t>iscritte</a:t>
            </a: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 al CAA: la gestione è consentita solo su quelle iscritte al proprio CAA Loc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31014-9F2D-4627-B702-54004354A61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entury Gothic"/>
              </a:rPr>
              <a:t>Azienda: Lista Azien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733920" y="5562720"/>
            <a:ext cx="2133360" cy="761760"/>
          </a:xfrm>
          <a:prstGeom prst="wedgeRectCallout">
            <a:avLst>
              <a:gd name="adj1" fmla="val -90180"/>
              <a:gd name="adj2" fmla="val -210208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733920" y="5562720"/>
            <a:ext cx="2133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entury Gothic"/>
              </a:rPr>
              <a:t>Cliccare qui  per entrare nel </a:t>
            </a:r>
            <a:r>
              <a:rPr b="1" lang="it-IT" sz="1200" spc="-1" strike="noStrike">
                <a:solidFill>
                  <a:srgbClr val="000000"/>
                </a:solidFill>
                <a:latin typeface="Century Gothic"/>
              </a:rPr>
              <a:t>dettaglio</a:t>
            </a:r>
            <a:r>
              <a:rPr b="0" lang="it-IT" sz="1200" spc="-1" strike="noStrike">
                <a:solidFill>
                  <a:srgbClr val="000000"/>
                </a:solidFill>
                <a:latin typeface="Century Gothic"/>
              </a:rPr>
              <a:t> del quadro Aziend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343400" y="609480"/>
            <a:ext cx="2819520" cy="1143000"/>
          </a:xfrm>
          <a:prstGeom prst="wedgeRectCallout">
            <a:avLst>
              <a:gd name="adj1" fmla="val -76800"/>
              <a:gd name="adj2" fmla="val 72777"/>
            </a:avLst>
          </a:prstGeom>
          <a:solidFill>
            <a:srgbClr val="e5f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419720" y="609480"/>
            <a:ext cx="2743200" cy="13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Century Gothic"/>
              </a:rPr>
              <a:t>Pulsanti di avanzamento</a:t>
            </a:r>
            <a:r>
              <a:rPr b="0" lang="it-IT" sz="1200" spc="-1" strike="noStrike">
                <a:solidFill>
                  <a:srgbClr val="000000"/>
                </a:solidFill>
                <a:latin typeface="Century Gothic"/>
              </a:rPr>
              <a:t> e posizionamento all’interno della Lista Azienda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75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entury Gothic"/>
              </a:rPr>
              <a:t>pagina successiva/preceden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75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entury Gothic"/>
              </a:rPr>
              <a:t>pagina iniziale/fin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75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990720"/>
            <a:ext cx="1828800" cy="10666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90720" y="1066680"/>
            <a:ext cx="167616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entury Gothic"/>
              </a:rPr>
              <a:t>La Lista Aziende è </a:t>
            </a:r>
            <a:r>
              <a:rPr b="1" lang="it-IT" sz="1200" spc="-1" strike="noStrike">
                <a:solidFill>
                  <a:srgbClr val="000000"/>
                </a:solidFill>
                <a:latin typeface="Century Gothic"/>
              </a:rPr>
              <a:t>ordinata</a:t>
            </a:r>
            <a:r>
              <a:rPr b="0" lang="it-IT" sz="1200" spc="-1" strike="noStrike">
                <a:solidFill>
                  <a:srgbClr val="000000"/>
                </a:solidFill>
                <a:latin typeface="Century Gothic"/>
              </a:rPr>
              <a:t> per Denominazione, Prov. e Comune della Sede Leg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019920" y="1828800"/>
            <a:ext cx="2286000" cy="533520"/>
          </a:xfrm>
          <a:prstGeom prst="wedgeRectCallout">
            <a:avLst>
              <a:gd name="adj1" fmla="val -73263"/>
              <a:gd name="adj2" fmla="val 29763"/>
            </a:avLst>
          </a:prstGeom>
          <a:solidFill>
            <a:srgbClr val="e5f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095880" y="1905120"/>
            <a:ext cx="1981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entury Gothic"/>
              </a:rPr>
              <a:t>Pagine di navigazione</a:t>
            </a: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 all’interno della Lis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E92FB-C026-4AA3-A364-DD72CA5826B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entury Gothic"/>
              </a:rPr>
              <a:t>Azienda: Azienda (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257800" y="4572000"/>
            <a:ext cx="2743200" cy="533520"/>
          </a:xfrm>
          <a:prstGeom prst="wedgeRectCallout">
            <a:avLst>
              <a:gd name="adj1" fmla="val 57930"/>
              <a:gd name="adj2" fmla="val 19643"/>
            </a:avLst>
          </a:prstGeom>
          <a:solidFill>
            <a:srgbClr val="e5f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257800" y="4572000"/>
            <a:ext cx="27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Se presenti, usare le barre di scorrimento verticale e orizzont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28600" y="5029200"/>
            <a:ext cx="3581280" cy="1600200"/>
          </a:xfrm>
          <a:prstGeom prst="upArrowCallout">
            <a:avLst>
              <a:gd name="adj1" fmla="val 47562"/>
              <a:gd name="adj2" fmla="val 60147"/>
              <a:gd name="adj3" fmla="val 8769"/>
              <a:gd name="adj4" fmla="val 38183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0880" y="5486400"/>
            <a:ext cx="3505320" cy="9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Century Gothic"/>
              </a:rPr>
              <a:t>Bottoni x gestire l’Azienda</a:t>
            </a: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SALVA = aggiorna l’Azienda in archiv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STAMPA = stampa completa dell’Azien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INDIETRO = torna alla pagina preceden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PULISCI=annulla le modifiche alla masche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429000" y="1600200"/>
            <a:ext cx="2438280" cy="609480"/>
          </a:xfrm>
          <a:prstGeom prst="wedgeRectCallout">
            <a:avLst>
              <a:gd name="adj1" fmla="val -1495"/>
              <a:gd name="adj2" fmla="val 87500"/>
            </a:avLst>
          </a:prstGeom>
          <a:solidFill>
            <a:srgbClr val="e5f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05320" y="1600200"/>
            <a:ext cx="2361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Il CUAA è una informazione gestita in “Nuova Azienda” e </a:t>
            </a:r>
            <a:r>
              <a:rPr b="1" lang="en-US" sz="1200" spc="-1" strike="noStrike">
                <a:solidFill>
                  <a:srgbClr val="000000"/>
                </a:solidFill>
                <a:latin typeface="Century Gothic"/>
              </a:rPr>
              <a:t>non più modificab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4572000"/>
            <a:ext cx="76320" cy="533520"/>
          </a:xfrm>
          <a:prstGeom prst="wedgeRectCallout">
            <a:avLst>
              <a:gd name="adj1" fmla="val -935416"/>
              <a:gd name="adj2" fmla="val 197023"/>
            </a:avLst>
          </a:prstGeom>
          <a:solidFill>
            <a:srgbClr val="e5f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7C44A-D519-492F-8B1E-A9B4D48DD18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entury Gothic"/>
              </a:rPr>
              <a:t>Azienda: Azienda (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324480" y="3124080"/>
            <a:ext cx="2438640" cy="685800"/>
          </a:xfrm>
          <a:prstGeom prst="wedgeRectCallout">
            <a:avLst>
              <a:gd name="adj1" fmla="val -93296"/>
              <a:gd name="adj2" fmla="val -28009"/>
            </a:avLst>
          </a:prstGeom>
          <a:solidFill>
            <a:srgbClr val="e5f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324480" y="3124080"/>
            <a:ext cx="2438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Quando l’Azienda è cessata </a:t>
            </a:r>
            <a:r>
              <a:rPr b="1" lang="en-US" sz="1200" spc="-1" strike="noStrike">
                <a:solidFill>
                  <a:srgbClr val="000000"/>
                </a:solidFill>
                <a:latin typeface="Century Gothic"/>
              </a:rPr>
              <a:t>non</a:t>
            </a: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entury Gothic"/>
              </a:rPr>
              <a:t>è più accessibile:</a:t>
            </a: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 è archiviata definitivamen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3124080"/>
            <a:ext cx="2438280" cy="762120"/>
          </a:xfrm>
          <a:prstGeom prst="wedgeRectCallout">
            <a:avLst>
              <a:gd name="adj1" fmla="val 56703"/>
              <a:gd name="adj2" fmla="val 14166"/>
            </a:avLst>
          </a:prstGeom>
          <a:solidFill>
            <a:srgbClr val="e5f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3200400"/>
            <a:ext cx="2590920" cy="5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Century Gothic"/>
              </a:rPr>
              <a:t>Posizione</a:t>
            </a:r>
            <a:r>
              <a:rPr b="0" lang="it-IT" sz="1200" spc="-1" strike="noStrike">
                <a:solidFill>
                  <a:srgbClr val="000000"/>
                </a:solidFill>
                <a:latin typeface="Century Gothic"/>
              </a:rPr>
              <a:t> dell’Azienda nel CA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entury Gothic"/>
              </a:rPr>
              <a:t>“</a:t>
            </a:r>
            <a:r>
              <a:rPr b="0" lang="it-IT" sz="1200" spc="-1" strike="noStrike">
                <a:solidFill>
                  <a:srgbClr val="000000"/>
                </a:solidFill>
                <a:latin typeface="Century Gothic"/>
              </a:rPr>
              <a:t>Azienda non validata” opp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entury Gothic"/>
              </a:rPr>
              <a:t>“</a:t>
            </a:r>
            <a:r>
              <a:rPr b="0" lang="it-IT" sz="1200" spc="-1" strike="noStrike">
                <a:solidFill>
                  <a:srgbClr val="000000"/>
                </a:solidFill>
                <a:latin typeface="Century Gothic"/>
              </a:rPr>
              <a:t>Azienda validata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657600" y="5181480"/>
            <a:ext cx="5105520" cy="1676520"/>
          </a:xfrm>
          <a:prstGeom prst="upArrowCallout">
            <a:avLst>
              <a:gd name="adj1" fmla="val 64719"/>
              <a:gd name="adj2" fmla="val 81842"/>
              <a:gd name="adj3" fmla="val 8769"/>
              <a:gd name="adj4" fmla="val 38183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733920" y="5562720"/>
            <a:ext cx="5029200" cy="11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 u="sng">
                <a:solidFill>
                  <a:srgbClr val="000000"/>
                </a:solidFill>
                <a:uFillTx/>
                <a:latin typeface="Century Gothic"/>
              </a:rPr>
              <a:t>Bottoni per accedere alle altre informazioni dell’Azienda</a:t>
            </a:r>
            <a:r>
              <a:rPr b="0" lang="it-IT" sz="1200" spc="-1" strike="noStrike">
                <a:solidFill>
                  <a:srgbClr val="000000"/>
                </a:solidFill>
                <a:latin typeface="Century Gothic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entury Gothic"/>
              </a:rPr>
              <a:t>PERSONE = elenco persone in Azien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entury Gothic"/>
              </a:rPr>
              <a:t>UNITA LOCALI = elenco altre Unità Local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entury Gothic"/>
              </a:rPr>
              <a:t>TERRENI = elenco possessi terreni dell’Azien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entury Gothic"/>
              </a:rPr>
              <a:t>VALIDAZIONE= utilizzabile solo dal Validatore o Amministrat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entury Gothic"/>
              </a:rPr>
              <a:t>CCIAA = collegamento con Infocamere per la Visura Telemat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4419720"/>
            <a:ext cx="2590920" cy="1066680"/>
          </a:xfrm>
          <a:prstGeom prst="wedgeRectCallout">
            <a:avLst>
              <a:gd name="adj1" fmla="val 47976"/>
              <a:gd name="adj2" fmla="val -64435"/>
            </a:avLst>
          </a:prstGeom>
          <a:solidFill>
            <a:srgbClr val="e5f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4495680"/>
            <a:ext cx="2743200" cy="9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Ultima </a:t>
            </a:r>
            <a:r>
              <a:rPr b="1" lang="en-US" sz="1200" spc="-1" strike="noStrike">
                <a:solidFill>
                  <a:srgbClr val="000000"/>
                </a:solidFill>
                <a:latin typeface="Century Gothic"/>
              </a:rPr>
              <a:t>fonte informativa</a:t>
            </a: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 dei dat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75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U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75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PAC SEMINATIVI 200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75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IINFOCAM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75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CA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A6D25-1CB6-4DDC-945C-90BA302E61B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entury Gothic"/>
              </a:rPr>
              <a:t>Azienda: CCIAA (Ricerca Azienda nel Registro Cameral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867280" y="2743200"/>
            <a:ext cx="2133720" cy="14479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943600" y="2819520"/>
            <a:ext cx="19051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entury Gothic"/>
              </a:rPr>
              <a:t>La Rircerca, all’interno del Registro Camerale, </a:t>
            </a:r>
            <a:r>
              <a:rPr b="1" lang="it-IT" sz="1200" spc="-1" strike="noStrike">
                <a:solidFill>
                  <a:srgbClr val="000000"/>
                </a:solidFill>
                <a:latin typeface="Century Gothic"/>
              </a:rPr>
              <a:t>è puntuale</a:t>
            </a:r>
            <a:r>
              <a:rPr b="0" lang="it-IT" sz="1200" spc="-1" strike="noStrike">
                <a:solidFill>
                  <a:srgbClr val="000000"/>
                </a:solidFill>
                <a:latin typeface="Century Gothic"/>
              </a:rPr>
              <a:t>: per Num. REA oppure per Codice Fiscale (CUAA) dell’Azien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37898-7BD7-4201-B561-522C0600357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3399"/>
                </a:solidFill>
                <a:latin typeface="Century Gothic"/>
              </a:rPr>
              <a:t>Azienda: CCIAA (Visura Telematica - 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1447920"/>
            <a:ext cx="2514600" cy="1066680"/>
          </a:xfrm>
          <a:prstGeom prst="wedgeRectCallout">
            <a:avLst>
              <a:gd name="adj1" fmla="val -144759"/>
              <a:gd name="adj2" fmla="val -4018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867280" y="1523880"/>
            <a:ext cx="25909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entury Gothic"/>
              </a:rPr>
              <a:t>Spuntare il gruppo di dati da </a:t>
            </a:r>
            <a:r>
              <a:rPr b="1" lang="it-IT" sz="1200" spc="-1" strike="noStrike">
                <a:solidFill>
                  <a:srgbClr val="000000"/>
                </a:solidFill>
                <a:latin typeface="Century Gothic"/>
              </a:rPr>
              <a:t>importare in Anagrafe</a:t>
            </a:r>
            <a:r>
              <a:rPr b="0" lang="it-IT" sz="1200" spc="-1" strike="noStrike">
                <a:solidFill>
                  <a:srgbClr val="000000"/>
                </a:solidFill>
                <a:latin typeface="Century Gothic"/>
              </a:rPr>
              <a:t> e premere il bottone </a:t>
            </a:r>
            <a:r>
              <a:rPr b="1" lang="it-IT" sz="1200" spc="-1" strike="noStrike">
                <a:solidFill>
                  <a:srgbClr val="000000"/>
                </a:solidFill>
                <a:latin typeface="Century Gothic"/>
              </a:rPr>
              <a:t>SALVA</a:t>
            </a:r>
            <a:r>
              <a:rPr b="0" lang="it-IT" sz="1200" spc="-1" strike="noStrike">
                <a:solidFill>
                  <a:srgbClr val="000000"/>
                </a:solidFill>
                <a:latin typeface="Century Gothic"/>
              </a:rPr>
              <a:t> per acquisire la Visura Telematica da Infocam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57200" y="4572000"/>
            <a:ext cx="2133720" cy="609480"/>
          </a:xfrm>
          <a:prstGeom prst="wedgeRectCallout">
            <a:avLst>
              <a:gd name="adj1" fmla="val -14435"/>
              <a:gd name="adj2" fmla="val -202083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57200" y="4572000"/>
            <a:ext cx="2209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entury Gothic"/>
              </a:rPr>
              <a:t>Bottone STAMPA per </a:t>
            </a:r>
            <a:r>
              <a:rPr b="1" lang="it-IT" sz="1200" spc="-1" strike="noStrike">
                <a:solidFill>
                  <a:srgbClr val="000000"/>
                </a:solidFill>
                <a:latin typeface="Century Gothic"/>
              </a:rPr>
              <a:t>stampare </a:t>
            </a:r>
            <a:r>
              <a:rPr b="0" lang="it-IT" sz="1200" spc="-1" strike="noStrike">
                <a:solidFill>
                  <a:srgbClr val="000000"/>
                </a:solidFill>
                <a:latin typeface="Century Gothic"/>
              </a:rPr>
              <a:t>la Visura Telematica di Infocam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DA3D2-6416-42D7-A2D0-7D4E372235C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3399"/>
                </a:solidFill>
                <a:latin typeface="Century Gothic"/>
              </a:rPr>
              <a:t>Azienda: CCIAA (Visura Telematica -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867280" y="1447920"/>
            <a:ext cx="2514600" cy="1066680"/>
          </a:xfrm>
          <a:prstGeom prst="wedgeRectCallout">
            <a:avLst>
              <a:gd name="adj1" fmla="val -63824"/>
              <a:gd name="adj2" fmla="val 75893"/>
            </a:avLst>
          </a:prstGeom>
          <a:solidFill>
            <a:srgbClr val="e5f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867280" y="1523880"/>
            <a:ext cx="24386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entury Gothic"/>
              </a:rPr>
              <a:t>Con questo messaggio tutti i dati dell’Azienda, richiesti da Infocamere, sono stati automaticamente registrati in Anagraf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CEBE3-9FAD-4673-AB81-05B1786CD15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NOTE PER LA  COMPILAZIO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914400" y="914400"/>
            <a:ext cx="7620120" cy="577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1) LE TIPOLOGIE DI UTENTI CAA SONO DEFINITI IN </a:t>
            </a:r>
            <a:r>
              <a:rPr b="0" lang="it-IT" sz="1200" spc="-1" strike="noStrike" u="sng">
                <a:solidFill>
                  <a:srgbClr val="000000"/>
                </a:solidFill>
                <a:uFillTx/>
                <a:latin typeface="Verdana"/>
              </a:rPr>
              <a:t>5 LIVELLI</a:t>
            </a: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 GERARCHICI 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Verdana"/>
              </a:rPr>
              <a:t>CAA Locale Lett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Può visualizzare tutte le Aziende di tutti i CAA Locali della stessa organizzazi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Verdana"/>
              </a:rPr>
              <a:t>CAA Locale Gest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Può visualizzare tutte le Aziende di tutti i CAA Locali della stessa organizzazi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Può Inserire/Modificare/Eliminare le Aziende del CAA Loc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Può Iscrivere l’Azienda al CAA Locale  o Trasferire le Aziende ad un altro CAA Loc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Verdana"/>
              </a:rPr>
              <a:t>CAA Locale Validatore</a:t>
            </a: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Può visualizzare tutte le Aziende di tutti i CAA Locali della stessa organizzazi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Può Inserire/Modificare/Eliminare le Aziende del CAA Loc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Può Iscrivere l’Azienda al CAA Locale  o Trasferire le Aziende ad un altro CAA Loc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Può Validare o Invalidare l’Azienda del CAA Loc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Verdana"/>
              </a:rPr>
              <a:t>CAA Locale Provinciale</a:t>
            </a: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spcBef>
                <a:spcPts val="7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Possiede tutte le funzioni del CAA Locale Validatore per tutte le Aziende della Provincia di competenza (non l’iscrizione/trasferimento: solo le Aziende del proprio CAA Local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Verdana"/>
              </a:rPr>
              <a:t>CAA Central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Può visualizzare tutte le Aziende di tutti i CAA Locali della stessa organizzazi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Può Inserire/Modificare/Eliminare le Aziende di tutti i CAA Locali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NON può Iscrivere l’Azienda al CAA Locale  o Trasferire le Aziende ad un altro CAA Loc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Può Validare o Invalidare l’Azienda di tutti i CAA Locali della stessa organizzazi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Sono disponibili funzioni di ricerca Utenti,  ricerca CAA Locali della stessa organizzazi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E01A0-3FA3-4F81-9BBF-EAE8F945CC2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entury Gothic"/>
              </a:rPr>
              <a:t>Azienda: Elenco Perso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191120" y="5486400"/>
            <a:ext cx="2133360" cy="609480"/>
          </a:xfrm>
          <a:prstGeom prst="wedgeRectCallout">
            <a:avLst>
              <a:gd name="adj1" fmla="val -112944"/>
              <a:gd name="adj2" fmla="val -163541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91120" y="5562720"/>
            <a:ext cx="2209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entury Gothic"/>
              </a:rPr>
              <a:t>Cliccare qui  per entrare nel </a:t>
            </a:r>
            <a:r>
              <a:rPr b="1" lang="it-IT" sz="1200" spc="-1" strike="noStrike">
                <a:solidFill>
                  <a:srgbClr val="000000"/>
                </a:solidFill>
                <a:latin typeface="Century Gothic"/>
              </a:rPr>
              <a:t>dettaglio</a:t>
            </a:r>
            <a:r>
              <a:rPr b="0" lang="it-IT" sz="1200" spc="-1" strike="noStrike">
                <a:solidFill>
                  <a:srgbClr val="000000"/>
                </a:solidFill>
                <a:latin typeface="Century Gothic"/>
              </a:rPr>
              <a:t> della Perso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914400" y="5410080"/>
            <a:ext cx="2133720" cy="685800"/>
          </a:xfrm>
          <a:prstGeom prst="wedgeRectCallout">
            <a:avLst>
              <a:gd name="adj1" fmla="val -23810"/>
              <a:gd name="adj2" fmla="val -171527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914400" y="5410080"/>
            <a:ext cx="2133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Bottone NUOVO per </a:t>
            </a:r>
            <a:r>
              <a:rPr b="1" lang="en-US" sz="1200" spc="-1" strike="noStrike">
                <a:solidFill>
                  <a:srgbClr val="000000"/>
                </a:solidFill>
                <a:latin typeface="Century Gothic"/>
              </a:rPr>
              <a:t>inserire</a:t>
            </a: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 una nuova Persona in Azien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022F2-8BD0-4CEA-9900-8491FB83F34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entury Gothic"/>
              </a:rPr>
              <a:t>Azienda: Persona (1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28600" y="3886200"/>
            <a:ext cx="3200400" cy="1295280"/>
          </a:xfrm>
          <a:prstGeom prst="upArrowCallout">
            <a:avLst>
              <a:gd name="adj1" fmla="val 52510"/>
              <a:gd name="adj2" fmla="val 66403"/>
              <a:gd name="adj3" fmla="val 8769"/>
              <a:gd name="adj4" fmla="val 38183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28600" y="4267080"/>
            <a:ext cx="3352680" cy="74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 u="sng">
                <a:solidFill>
                  <a:srgbClr val="000000"/>
                </a:solidFill>
                <a:uFillTx/>
                <a:latin typeface="Century Gothic"/>
              </a:rPr>
              <a:t>Bottoni x gestire la Perso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entury Gothic"/>
              </a:rPr>
              <a:t>SALVA = aggiorna la Persona  in archiv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entury Gothic"/>
              </a:rPr>
              <a:t>ELIMINA = elimina la Persona dall’archiv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entury Gothic"/>
              </a:rPr>
              <a:t>INDIETRO = torna alla pag. preceden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B3DAB-71A6-4150-A134-484D65A8523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entury Gothic"/>
              </a:rPr>
              <a:t>Azienda: Persona (2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638680" y="3276720"/>
            <a:ext cx="2438640" cy="838080"/>
          </a:xfrm>
          <a:prstGeom prst="wedgeRectCallout">
            <a:avLst>
              <a:gd name="adj1" fmla="val -119273"/>
              <a:gd name="adj2" fmla="val 27652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638680" y="3276720"/>
            <a:ext cx="2438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entury Gothic"/>
              </a:rPr>
              <a:t>Inserire ‘S’ per indicare la Persona dell’Azienda </a:t>
            </a:r>
            <a:r>
              <a:rPr b="1" lang="it-IT" sz="1200" spc="-1" strike="noStrike">
                <a:solidFill>
                  <a:srgbClr val="000000"/>
                </a:solidFill>
                <a:latin typeface="Century Gothic"/>
              </a:rPr>
              <a:t>referente</a:t>
            </a:r>
            <a:r>
              <a:rPr b="0" lang="it-IT" sz="1200" spc="-1" strike="noStrike">
                <a:solidFill>
                  <a:srgbClr val="000000"/>
                </a:solidFill>
                <a:latin typeface="Century Gothic"/>
              </a:rPr>
              <a:t> per l’Anagrafe   (N.B. una sola Person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705720" y="4648320"/>
            <a:ext cx="1981080" cy="838080"/>
          </a:xfrm>
          <a:prstGeom prst="wedgeRectCallout">
            <a:avLst>
              <a:gd name="adj1" fmla="val -78"/>
              <a:gd name="adj2" fmla="val -8674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705720" y="4724280"/>
            <a:ext cx="2209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Selezionare dall’elenco il Ruolo della Persona in Azien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4800600"/>
            <a:ext cx="2362320" cy="990720"/>
          </a:xfrm>
          <a:prstGeom prst="wedgeRectCallout">
            <a:avLst>
              <a:gd name="adj1" fmla="val 66129"/>
              <a:gd name="adj2" fmla="val -21634"/>
            </a:avLst>
          </a:prstGeom>
          <a:solidFill>
            <a:srgbClr val="e5f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28600" y="4876920"/>
            <a:ext cx="2133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entury Gothic"/>
              </a:rPr>
              <a:t>Fonte di provenienza</a:t>
            </a: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 delle informazioni della Persona e </a:t>
            </a:r>
            <a:r>
              <a:rPr b="1" lang="en-US" sz="1200" spc="-1" strike="noStrike">
                <a:solidFill>
                  <a:srgbClr val="000000"/>
                </a:solidFill>
                <a:latin typeface="Century Gothic"/>
              </a:rPr>
              <a:t>operatore del CAA</a:t>
            </a: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 che ha  aggiorna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A13BD-2EAD-425E-90E3-F2EB6A7C4D9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entury Gothic"/>
              </a:rPr>
              <a:t>Azienda: Elenco Unità Local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114800" y="5105520"/>
            <a:ext cx="2133720" cy="609480"/>
          </a:xfrm>
          <a:prstGeom prst="wedgeRectCallout">
            <a:avLst>
              <a:gd name="adj1" fmla="val -104763"/>
              <a:gd name="adj2" fmla="val -125259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114800" y="5105520"/>
            <a:ext cx="2133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entury Gothic"/>
              </a:rPr>
              <a:t>Cliccare qui per entrare nel </a:t>
            </a:r>
            <a:r>
              <a:rPr b="1" lang="it-IT" sz="1200" spc="-1" strike="noStrike">
                <a:solidFill>
                  <a:srgbClr val="000000"/>
                </a:solidFill>
                <a:latin typeface="Century Gothic"/>
              </a:rPr>
              <a:t>dettaglio</a:t>
            </a:r>
            <a:r>
              <a:rPr b="0" lang="it-IT" sz="1200" spc="-1" strike="noStrike">
                <a:solidFill>
                  <a:srgbClr val="000000"/>
                </a:solidFill>
                <a:latin typeface="Century Gothic"/>
              </a:rPr>
              <a:t> della Unità Loc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5562720"/>
            <a:ext cx="2133720" cy="609480"/>
          </a:xfrm>
          <a:prstGeom prst="wedgeRectCallout">
            <a:avLst>
              <a:gd name="adj1" fmla="val -26486"/>
              <a:gd name="adj2" fmla="val -191407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66680" y="5562720"/>
            <a:ext cx="2133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Bottone NUOVO per </a:t>
            </a:r>
            <a:r>
              <a:rPr b="1" lang="en-US" sz="1200" spc="-1" strike="noStrike">
                <a:solidFill>
                  <a:srgbClr val="000000"/>
                </a:solidFill>
                <a:latin typeface="Century Gothic"/>
              </a:rPr>
              <a:t>inserire</a:t>
            </a: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  una nuova Unità Locale in Azien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E0D8B-51BA-4C99-86F6-CE58B375386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entury Gothic"/>
              </a:rPr>
              <a:t>Azienda: Unità Locale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28600" y="3352680"/>
            <a:ext cx="3429000" cy="1067040"/>
          </a:xfrm>
          <a:prstGeom prst="upArrowCallout">
            <a:avLst>
              <a:gd name="adj1" fmla="val 68294"/>
              <a:gd name="adj2" fmla="val 86364"/>
              <a:gd name="adj3" fmla="val 8769"/>
              <a:gd name="adj4" fmla="val 38183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04920" y="3657600"/>
            <a:ext cx="3504960" cy="74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 u="sng">
                <a:solidFill>
                  <a:srgbClr val="000000"/>
                </a:solidFill>
                <a:uFillTx/>
                <a:latin typeface="Century Gothic"/>
              </a:rPr>
              <a:t>Bottoni per gestire la Unità Loc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entury Gothic"/>
              </a:rPr>
              <a:t>SALVA = aggiorna Unità Locale in archiv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entury Gothic"/>
              </a:rPr>
              <a:t>ELIMINA = elimina Unità Locale dall’archiv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entury Gothic"/>
              </a:rPr>
              <a:t>INDIETRO = torna alla pag. preceden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781680" y="4572000"/>
            <a:ext cx="2133720" cy="838080"/>
          </a:xfrm>
          <a:prstGeom prst="wedgeRectCallout">
            <a:avLst>
              <a:gd name="adj1" fmla="val -124703"/>
              <a:gd name="adj2" fmla="val -35986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781680" y="4572000"/>
            <a:ext cx="2133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entury Gothic"/>
              </a:rPr>
              <a:t>Inserire ‘S’ per indicare la  Unità locale come </a:t>
            </a:r>
            <a:r>
              <a:rPr b="1" lang="it-IT" sz="1200" spc="-1" strike="noStrike">
                <a:solidFill>
                  <a:srgbClr val="000000"/>
                </a:solidFill>
                <a:latin typeface="Century Gothic"/>
              </a:rPr>
              <a:t>Sede Principale</a:t>
            </a:r>
            <a:r>
              <a:rPr b="0" lang="it-IT" sz="1200" spc="-1" strike="noStrike">
                <a:solidFill>
                  <a:srgbClr val="000000"/>
                </a:solidFill>
                <a:latin typeface="Century Gothic"/>
              </a:rPr>
              <a:t> dell’Azienda (una sola Sede Principa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52280" y="5486400"/>
            <a:ext cx="2362320" cy="990720"/>
          </a:xfrm>
          <a:prstGeom prst="wedgeRectCallout">
            <a:avLst>
              <a:gd name="adj1" fmla="val 58601"/>
              <a:gd name="adj2" fmla="val -43430"/>
            </a:avLst>
          </a:prstGeom>
          <a:solidFill>
            <a:srgbClr val="e5f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52280" y="55627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entury Gothic"/>
              </a:rPr>
              <a:t>Fonte di provenienza</a:t>
            </a: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 delle informazioni della Unità Locale e </a:t>
            </a:r>
            <a:r>
              <a:rPr b="1" lang="en-US" sz="1200" spc="-1" strike="noStrike">
                <a:solidFill>
                  <a:srgbClr val="000000"/>
                </a:solidFill>
                <a:latin typeface="Century Gothic"/>
              </a:rPr>
              <a:t>operatore del CAA</a:t>
            </a: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 che ha  aggiorna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19EE9-7B9D-4DD0-9361-96377102D102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entury Gothic"/>
              </a:rPr>
              <a:t>Azienda: Elenco Terren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743200" y="5715000"/>
            <a:ext cx="2209680" cy="685800"/>
          </a:xfrm>
          <a:prstGeom prst="wedgeRectCallout">
            <a:avLst>
              <a:gd name="adj1" fmla="val -123851"/>
              <a:gd name="adj2" fmla="val -220833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743200" y="5715000"/>
            <a:ext cx="2286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entury Gothic"/>
              </a:rPr>
              <a:t>Cliccare qui  per </a:t>
            </a:r>
            <a:r>
              <a:rPr b="1" lang="it-IT" sz="1200" spc="-1" strike="noStrike">
                <a:solidFill>
                  <a:srgbClr val="000000"/>
                </a:solidFill>
                <a:latin typeface="Century Gothic"/>
              </a:rPr>
              <a:t>entrare </a:t>
            </a:r>
            <a:r>
              <a:rPr b="0" lang="it-IT" sz="1200" spc="-1" strike="noStrike">
                <a:solidFill>
                  <a:srgbClr val="000000"/>
                </a:solidFill>
                <a:latin typeface="Century Gothic"/>
              </a:rPr>
              <a:t>sui  dati del Possesso della Particella selezion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429000" y="533520"/>
            <a:ext cx="2666880" cy="11430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429000" y="609480"/>
            <a:ext cx="27432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L’Elenco Terreni è l’insieme dei Possessi</a:t>
            </a:r>
            <a:r>
              <a:rPr b="1" lang="en-US" sz="1200" spc="-1" strike="noStrike">
                <a:solidFill>
                  <a:srgbClr val="000000"/>
                </a:solidFill>
                <a:latin typeface="Century Gothic"/>
              </a:rPr>
              <a:t> (attivi e chiusi)</a:t>
            </a: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 dell’Azienda ed è </a:t>
            </a:r>
            <a:r>
              <a:rPr b="1" lang="en-US" sz="1200" spc="-1" strike="noStrike">
                <a:solidFill>
                  <a:srgbClr val="000000"/>
                </a:solidFill>
                <a:latin typeface="Century Gothic"/>
              </a:rPr>
              <a:t>ordinato</a:t>
            </a: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 per Provincia, Comune,Sezione, Foglio, Particella, Sub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267080" y="1905120"/>
            <a:ext cx="2819520" cy="990360"/>
          </a:xfrm>
          <a:prstGeom prst="wedgeRectCallout">
            <a:avLst>
              <a:gd name="adj1" fmla="val -70384"/>
              <a:gd name="adj2" fmla="val 53847"/>
            </a:avLst>
          </a:prstGeom>
          <a:solidFill>
            <a:srgbClr val="e5f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267080" y="1905120"/>
            <a:ext cx="27432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entury Gothic"/>
              </a:rPr>
              <a:t>Pagine di navigazione</a:t>
            </a: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 per numero di pagina  all’interno della Lista Possessi: (simile motore ricerca)      ( dopo le prime 10 si avanza di 4 alla volt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60779-1AD4-41F1-B67D-DBBEAB572D5D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entury Gothic"/>
              </a:rPr>
              <a:t>Azienda: Possesso Terre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371600" y="3124080"/>
            <a:ext cx="990720" cy="1295640"/>
          </a:xfrm>
          <a:prstGeom prst="rightArrowCallout">
            <a:avLst>
              <a:gd name="adj1" fmla="val 32697"/>
              <a:gd name="adj2" fmla="val 32694"/>
              <a:gd name="adj3" fmla="val 16667"/>
              <a:gd name="adj4" fmla="val 66667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19920" y="1523880"/>
            <a:ext cx="1066680" cy="1219320"/>
          </a:xfrm>
          <a:prstGeom prst="leftArrowCallout">
            <a:avLst>
              <a:gd name="adj1" fmla="val 28580"/>
              <a:gd name="adj2" fmla="val 28577"/>
              <a:gd name="adj3" fmla="val 16667"/>
              <a:gd name="adj4" fmla="val 66673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rot="10800000">
            <a:off x="1527480" y="3276720"/>
            <a:ext cx="3628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vert="eaVer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POSSESS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rot="10800000">
            <a:off x="6476760" y="1676160"/>
            <a:ext cx="54540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PARTICELLA CATAST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553080" y="3581280"/>
            <a:ext cx="2133720" cy="1371600"/>
          </a:xfrm>
          <a:prstGeom prst="wedgeRectCallout">
            <a:avLst>
              <a:gd name="adj1" fmla="val -62944"/>
              <a:gd name="adj2" fmla="val 16319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553080" y="3581280"/>
            <a:ext cx="21337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entury Gothic"/>
              </a:rPr>
              <a:t>Cliccare qui  per </a:t>
            </a:r>
            <a:r>
              <a:rPr b="1" lang="it-IT" sz="1200" spc="-1" strike="noStrike">
                <a:solidFill>
                  <a:srgbClr val="000000"/>
                </a:solidFill>
                <a:latin typeface="Century Gothic"/>
              </a:rPr>
              <a:t>visualizzare</a:t>
            </a:r>
            <a:r>
              <a:rPr b="0" lang="it-IT" sz="1200" spc="-1" strike="noStrike">
                <a:solidFill>
                  <a:srgbClr val="000000"/>
                </a:solidFill>
                <a:latin typeface="Century Gothic"/>
              </a:rPr>
              <a:t> tutte le Aziende che possiedono la particella le cui superfici, in totale, </a:t>
            </a:r>
            <a:r>
              <a:rPr b="1" lang="it-IT" sz="1200" spc="-1" strike="noStrike">
                <a:solidFill>
                  <a:srgbClr val="000000"/>
                </a:solidFill>
                <a:latin typeface="Century Gothic"/>
              </a:rPr>
              <a:t>superano</a:t>
            </a:r>
            <a:r>
              <a:rPr b="0" lang="it-IT" sz="1200" spc="-1" strike="noStrike">
                <a:solidFill>
                  <a:srgbClr val="000000"/>
                </a:solidFill>
                <a:latin typeface="Century Gothic"/>
              </a:rPr>
              <a:t> la catastale almeno di 0,0100 H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6019920"/>
            <a:ext cx="2133720" cy="609480"/>
          </a:xfrm>
          <a:prstGeom prst="wedgeRectCallout">
            <a:avLst>
              <a:gd name="adj1" fmla="val 47245"/>
              <a:gd name="adj2" fmla="val -83333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666880" y="6019920"/>
            <a:ext cx="22100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entury Gothic"/>
              </a:rPr>
              <a:t>Cliccare qui per </a:t>
            </a:r>
            <a:r>
              <a:rPr b="1" lang="it-IT" sz="1200" spc="-1" strike="noStrike">
                <a:solidFill>
                  <a:srgbClr val="000000"/>
                </a:solidFill>
                <a:latin typeface="Century Gothic"/>
              </a:rPr>
              <a:t>gestire</a:t>
            </a:r>
            <a:r>
              <a:rPr b="0" lang="it-IT" sz="1200" spc="-1" strike="noStrike">
                <a:solidFill>
                  <a:srgbClr val="000000"/>
                </a:solidFill>
                <a:latin typeface="Century Gothic"/>
              </a:rPr>
              <a:t> le Macro Aree del Possesso (A,B,C,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562720" y="6019920"/>
            <a:ext cx="2286000" cy="838080"/>
          </a:xfrm>
          <a:prstGeom prst="wedgeRectCallout">
            <a:avLst>
              <a:gd name="adj1" fmla="val -47777"/>
              <a:gd name="adj2" fmla="val -72916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562720" y="6019920"/>
            <a:ext cx="2361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entury Gothic"/>
              </a:rPr>
              <a:t>Cliccare qui per </a:t>
            </a:r>
            <a:r>
              <a:rPr b="1" lang="it-IT" sz="1200" spc="-1" strike="noStrike">
                <a:solidFill>
                  <a:srgbClr val="000000"/>
                </a:solidFill>
                <a:latin typeface="Century Gothic"/>
              </a:rPr>
              <a:t>vedere e gestire</a:t>
            </a:r>
            <a:r>
              <a:rPr b="0" lang="it-IT" sz="1200" spc="-1" strike="noStrike">
                <a:solidFill>
                  <a:srgbClr val="000000"/>
                </a:solidFill>
                <a:latin typeface="Century Gothic"/>
              </a:rPr>
              <a:t> altri dati della Particella (casi particolari, tipo document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D7306-64E0-44D3-A469-FDBFE33133B3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entury Gothic"/>
              </a:rPr>
              <a:t>Azienda: bottone AZIENDE COINVOL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D2D64-8B7B-4BB4-8EC9-8E8C148AF76A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entury Gothic"/>
              </a:rPr>
              <a:t>Azienda: Particell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838080" y="5715000"/>
            <a:ext cx="3810240" cy="914400"/>
          </a:xfrm>
          <a:prstGeom prst="wedgeRectCallout">
            <a:avLst>
              <a:gd name="adj1" fmla="val 58041"/>
              <a:gd name="adj2" fmla="val -4774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838080" y="5715000"/>
            <a:ext cx="3886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entury Gothic"/>
              </a:rPr>
              <a:t>Cliccare qui per ottenere l’elenco degli Eventi di </a:t>
            </a:r>
            <a:r>
              <a:rPr b="1" lang="it-IT" sz="1200" spc="-1" strike="noStrike">
                <a:solidFill>
                  <a:srgbClr val="000000"/>
                </a:solidFill>
                <a:latin typeface="Century Gothic"/>
              </a:rPr>
              <a:t>inserimento/frazionamento/accorpamento</a:t>
            </a:r>
            <a:r>
              <a:rPr b="0" lang="it-IT" sz="1200" spc="-1" strike="noStrike">
                <a:solidFill>
                  <a:srgbClr val="000000"/>
                </a:solidFill>
                <a:latin typeface="Century Gothic"/>
              </a:rPr>
              <a:t> che hanno determinato l’inserimento o la modifica della particella nell’archivio Terren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477120" y="3429000"/>
            <a:ext cx="2361960" cy="1371600"/>
          </a:xfrm>
          <a:prstGeom prst="wedgeRectCallout">
            <a:avLst>
              <a:gd name="adj1" fmla="val -80509"/>
              <a:gd name="adj2" fmla="val 38194"/>
            </a:avLst>
          </a:prstGeom>
          <a:solidFill>
            <a:srgbClr val="e5f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477120" y="3429000"/>
            <a:ext cx="2438280" cy="135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Informazioni della Particella inserite automaticament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Fon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Data inizio (convenziona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Data F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75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Data Inserime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F9D55-C70E-4A4B-B982-66D357CFF929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entury Gothic"/>
              </a:rPr>
              <a:t>Azienda: Liste Event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1295280" y="5562720"/>
            <a:ext cx="2667240" cy="1143000"/>
          </a:xfrm>
          <a:prstGeom prst="wedgeRectCallout">
            <a:avLst>
              <a:gd name="adj1" fmla="val -46666"/>
              <a:gd name="adj2" fmla="val -79166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5562720"/>
            <a:ext cx="2667240" cy="110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entury Gothic"/>
              </a:rPr>
              <a:t>Cliccare qui per ripristinare la particella originale (catasto e possess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entury Gothic"/>
              </a:rPr>
              <a:t>N.B. E’ abilitato solo il CAA che ha generato l’eve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3AF43-C93D-4DDF-975C-46B50773E8DE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609480" y="380880"/>
            <a:ext cx="7925040" cy="617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2) LE INFORMAZIONI NECESSARIE PER </a:t>
            </a:r>
            <a:r>
              <a:rPr b="1" lang="it-IT" sz="1200" spc="-1" strike="noStrike">
                <a:solidFill>
                  <a:srgbClr val="000000"/>
                </a:solidFill>
                <a:latin typeface="Verdana"/>
              </a:rPr>
              <a:t>LA VALIDAZIONE</a:t>
            </a: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 DELLA POSIZIONE AZIENDALE SON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NEL QUADRO DELL’ </a:t>
            </a:r>
            <a:r>
              <a:rPr b="0" lang="it-IT" sz="1200" spc="-1" strike="noStrike" u="sng">
                <a:solidFill>
                  <a:srgbClr val="000000"/>
                </a:solidFill>
                <a:uFillTx/>
                <a:latin typeface="Verdana"/>
              </a:rPr>
              <a:t>AZIEN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50000"/>
              </a:lnSpc>
              <a:spcBef>
                <a:spcPts val="7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Codice Fisc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50000"/>
              </a:lnSpc>
              <a:spcBef>
                <a:spcPts val="7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Partita IV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50000"/>
              </a:lnSpc>
              <a:spcBef>
                <a:spcPts val="7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Denominazi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50000"/>
              </a:lnSpc>
              <a:spcBef>
                <a:spcPts val="7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Forma Giurid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50000"/>
              </a:lnSpc>
              <a:spcBef>
                <a:spcPts val="7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Indirizzo e CAP della Sede Leg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50000"/>
              </a:lnSpc>
              <a:spcBef>
                <a:spcPts val="7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Provincia e Comune della Sede Leg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75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NEL QUADRO DELLA </a:t>
            </a:r>
            <a:r>
              <a:rPr b="0" lang="it-IT" sz="1200" spc="-1" strike="noStrike" u="sng">
                <a:solidFill>
                  <a:srgbClr val="000000"/>
                </a:solidFill>
                <a:uFillTx/>
                <a:latin typeface="Verdana"/>
              </a:rPr>
              <a:t>PERSONA REFERENTE</a:t>
            </a: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 PER L’ANAGRAFE  (SOLO 1 REFERENT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50000"/>
              </a:lnSpc>
              <a:spcBef>
                <a:spcPts val="7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Codice Fisc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50000"/>
              </a:lnSpc>
              <a:spcBef>
                <a:spcPts val="7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Cogno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50000"/>
              </a:lnSpc>
              <a:spcBef>
                <a:spcPts val="7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No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50000"/>
              </a:lnSpc>
              <a:spcBef>
                <a:spcPts val="7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Sesso e Data di Nasci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50000"/>
              </a:lnSpc>
              <a:spcBef>
                <a:spcPts val="7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Provincia e Comune di Nasci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50000"/>
              </a:lnSpc>
              <a:spcBef>
                <a:spcPts val="7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Indirizzo e CAP di Residenz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50000"/>
              </a:lnSpc>
              <a:spcBef>
                <a:spcPts val="7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Provincia e Comune di Residenz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50000"/>
              </a:lnSpc>
              <a:spcBef>
                <a:spcPts val="7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Ruol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50000"/>
              </a:lnSpc>
              <a:spcBef>
                <a:spcPts val="7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Data inizio Rappor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N.B. Le UNITA’ LOCALI e i POSSESSI </a:t>
            </a:r>
            <a:r>
              <a:rPr b="1" lang="it-IT" sz="1200" spc="-1" strike="noStrike">
                <a:solidFill>
                  <a:srgbClr val="000000"/>
                </a:solidFill>
                <a:latin typeface="Verdana"/>
              </a:rPr>
              <a:t>non </a:t>
            </a: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sono controllate ai fini della Validazio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3) La </a:t>
            </a:r>
            <a:r>
              <a:rPr b="1" lang="it-IT" sz="1200" spc="-1" strike="noStrike">
                <a:solidFill>
                  <a:srgbClr val="000000"/>
                </a:solidFill>
                <a:latin typeface="Verdana"/>
              </a:rPr>
              <a:t>FONTE informativa</a:t>
            </a: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 di ciascun oggetto indica quale è l’origine dei dati (da quale archivio provengono). I possibili valori sono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entury Gothic"/>
              </a:rPr>
              <a:t>“</a:t>
            </a:r>
            <a:r>
              <a:rPr b="0" lang="it-IT" sz="1200" spc="-1" strike="noStrike">
                <a:solidFill>
                  <a:srgbClr val="000000"/>
                </a:solidFill>
                <a:latin typeface="Century Gothic"/>
              </a:rPr>
              <a:t>UMA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entury Gothic"/>
              </a:rPr>
              <a:t>“</a:t>
            </a:r>
            <a:r>
              <a:rPr b="0" lang="it-IT" sz="1200" spc="-1" strike="noStrike">
                <a:solidFill>
                  <a:srgbClr val="000000"/>
                </a:solidFill>
                <a:latin typeface="Century Gothic"/>
              </a:rPr>
              <a:t>PAC SEMINATIVI 2003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entury Gothic"/>
              </a:rPr>
              <a:t>“</a:t>
            </a:r>
            <a:r>
              <a:rPr b="0" lang="it-IT" sz="1200" spc="-1" strike="noStrike">
                <a:solidFill>
                  <a:srgbClr val="000000"/>
                </a:solidFill>
                <a:latin typeface="Century Gothic"/>
              </a:rPr>
              <a:t>INFOCAMERE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Essa è presente nei quadri: </a:t>
            </a:r>
            <a:r>
              <a:rPr b="0" lang="it-IT" sz="1200" spc="-1" strike="noStrike" u="sng">
                <a:solidFill>
                  <a:srgbClr val="000000"/>
                </a:solidFill>
                <a:uFillTx/>
                <a:latin typeface="Verdana"/>
              </a:rPr>
              <a:t>AZIENDA</a:t>
            </a: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it-IT" sz="1200" spc="-1" strike="noStrike" u="sng">
                <a:solidFill>
                  <a:srgbClr val="000000"/>
                </a:solidFill>
                <a:uFillTx/>
                <a:latin typeface="Verdana"/>
              </a:rPr>
              <a:t>PERSONA</a:t>
            </a: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it-IT" sz="1200" spc="-1" strike="noStrike" u="sng">
                <a:solidFill>
                  <a:srgbClr val="000000"/>
                </a:solidFill>
                <a:uFillTx/>
                <a:latin typeface="Verdana"/>
              </a:rPr>
              <a:t>UNITA’ LOCALE</a:t>
            </a: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Quando le informazioni sono aggiornate dall’Utente, la FONTE assume il valore di  “CAA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098F7-045C-4EEA-AE21-44FEA6D1800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entury Gothic"/>
              </a:rPr>
              <a:t>Azienda: Macro Aree (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80880" y="5410080"/>
            <a:ext cx="2133720" cy="609840"/>
          </a:xfrm>
          <a:prstGeom prst="wedgeRectCallout">
            <a:avLst>
              <a:gd name="adj1" fmla="val 27527"/>
              <a:gd name="adj2" fmla="val -23880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80880" y="5486400"/>
            <a:ext cx="221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Bottone SALVA per </a:t>
            </a:r>
            <a:r>
              <a:rPr b="1" lang="en-US" sz="1200" spc="-1" strike="noStrike">
                <a:solidFill>
                  <a:srgbClr val="000000"/>
                </a:solidFill>
                <a:latin typeface="Century Gothic"/>
              </a:rPr>
              <a:t>inserire</a:t>
            </a: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 la Macro Area (A,B,C,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638680" y="3429000"/>
            <a:ext cx="2133720" cy="762120"/>
          </a:xfrm>
          <a:prstGeom prst="wedgeRectCallout">
            <a:avLst>
              <a:gd name="adj1" fmla="val -134819"/>
              <a:gd name="adj2" fmla="val 47916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638680" y="3505320"/>
            <a:ext cx="2133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entury Gothic"/>
              </a:rPr>
              <a:t>Le Macro Aree pre-impostate</a:t>
            </a:r>
            <a:r>
              <a:rPr b="1" lang="it-IT" sz="1200" spc="-1" strike="noStrike">
                <a:solidFill>
                  <a:srgbClr val="000000"/>
                </a:solidFill>
                <a:latin typeface="Century Gothic"/>
              </a:rPr>
              <a:t> non</a:t>
            </a:r>
            <a:r>
              <a:rPr b="0" lang="it-IT" sz="1200" spc="-1" strike="noStrike">
                <a:solidFill>
                  <a:srgbClr val="000000"/>
                </a:solidFill>
                <a:latin typeface="Century Gothic"/>
              </a:rPr>
              <a:t> sono modificabil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410080" y="762120"/>
            <a:ext cx="2590920" cy="25905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486400" y="762120"/>
            <a:ext cx="2438280" cy="249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Gestione consentita per le Macro Are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Area A: spuntare solo 1 vo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Area B: spuntare solo 1 vo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Area C: spuntare 1 o 2 vo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Area D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spuntare 1 voce fino a “zona di tutela naturalistica…..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qualunque spunta da “oasi..”  fino a fine lis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477120" y="5181480"/>
            <a:ext cx="2133360" cy="762120"/>
          </a:xfrm>
          <a:prstGeom prst="wedgeRectCallout">
            <a:avLst>
              <a:gd name="adj1" fmla="val -126189"/>
              <a:gd name="adj2" fmla="val -6458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477120" y="5257800"/>
            <a:ext cx="2133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entury Gothic"/>
              </a:rPr>
              <a:t>Area sprotetta ove è possibile effettuare 1scel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7D1D0-8D52-4DA3-9B60-9E97EE974EB5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entury Gothic"/>
              </a:rPr>
              <a:t>Azienda: Macro Aree (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04920" y="3352680"/>
            <a:ext cx="2819160" cy="1067040"/>
          </a:xfrm>
          <a:prstGeom prst="wedgeRectCallout">
            <a:avLst>
              <a:gd name="adj1" fmla="val 63796"/>
              <a:gd name="adj2" fmla="val -18152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57200" y="3352680"/>
            <a:ext cx="2743200" cy="101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entury Gothic"/>
              </a:rPr>
              <a:t>Cliccare qui  per </a:t>
            </a:r>
            <a:r>
              <a:rPr b="1" lang="it-IT" sz="1200" spc="-1" strike="noStrike">
                <a:solidFill>
                  <a:srgbClr val="000000"/>
                </a:solidFill>
                <a:latin typeface="Century Gothic"/>
              </a:rPr>
              <a:t>inserire  </a:t>
            </a:r>
            <a:r>
              <a:rPr b="0" lang="it-IT" sz="1200" spc="-1" strike="noStrike">
                <a:solidFill>
                  <a:srgbClr val="000000"/>
                </a:solidFill>
                <a:latin typeface="Century Gothic"/>
              </a:rPr>
              <a:t>il valore della Macro Area (D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entury Gothic"/>
              </a:rPr>
              <a:t>1..7  : selezionare solo una vo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entury Gothic"/>
              </a:rPr>
              <a:t>8…14 :è possibile più di una scel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D042A-443A-4E47-97BF-4A2B50638DEC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entury Gothic"/>
              </a:rPr>
              <a:t>Azienda: Inserimento Nuovo Possesso (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066680" y="2438280"/>
            <a:ext cx="1600200" cy="838440"/>
          </a:xfrm>
          <a:prstGeom prst="wedgeRectCallout">
            <a:avLst>
              <a:gd name="adj1" fmla="val 12402"/>
              <a:gd name="adj2" fmla="val 76134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066680" y="2590920"/>
            <a:ext cx="16765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Century Gothic"/>
              </a:rPr>
              <a:t>2</a:t>
            </a:r>
            <a:r>
              <a:rPr b="0" lang="it-IT" sz="1200" spc="-1" strike="noStrike">
                <a:solidFill>
                  <a:srgbClr val="000000"/>
                </a:solidFill>
                <a:latin typeface="Century Gothic"/>
              </a:rPr>
              <a:t> - Cliccare qui  per </a:t>
            </a:r>
            <a:r>
              <a:rPr b="1" lang="it-IT" sz="1200" spc="-1" strike="noStrike">
                <a:solidFill>
                  <a:srgbClr val="000000"/>
                </a:solidFill>
                <a:latin typeface="Century Gothic"/>
              </a:rPr>
              <a:t>inserire</a:t>
            </a:r>
            <a:r>
              <a:rPr b="0" lang="it-IT" sz="1200" spc="-1" strike="noStrike">
                <a:solidFill>
                  <a:srgbClr val="000000"/>
                </a:solidFill>
                <a:latin typeface="Century Gothic"/>
              </a:rPr>
              <a:t> il Possesso in Azien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867280" y="4724280"/>
            <a:ext cx="2133720" cy="609840"/>
          </a:xfrm>
          <a:prstGeom prst="wedgeRectCallout">
            <a:avLst>
              <a:gd name="adj1" fmla="val -42634"/>
              <a:gd name="adj2" fmla="val -128648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867280" y="4724280"/>
            <a:ext cx="2133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Century Gothic"/>
              </a:rPr>
              <a:t>3</a:t>
            </a:r>
            <a:r>
              <a:rPr b="0" lang="it-IT" sz="1200" spc="-1" strike="noStrike">
                <a:solidFill>
                  <a:srgbClr val="000000"/>
                </a:solidFill>
                <a:latin typeface="Century Gothic"/>
              </a:rPr>
              <a:t> - Cliccare qui  </a:t>
            </a:r>
            <a:r>
              <a:rPr b="1" lang="it-IT" sz="1200" spc="-1" strike="noStrike">
                <a:solidFill>
                  <a:srgbClr val="000000"/>
                </a:solidFill>
                <a:latin typeface="Century Gothic"/>
              </a:rPr>
              <a:t>confermare</a:t>
            </a:r>
            <a:r>
              <a:rPr b="0" lang="it-IT" sz="1200" spc="-1" strike="noStrike">
                <a:solidFill>
                  <a:srgbClr val="000000"/>
                </a:solidFill>
                <a:latin typeface="Century Gothic"/>
              </a:rPr>
              <a:t> l’inserimento del Possesso in Azien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019920" y="533520"/>
            <a:ext cx="2133360" cy="2133360"/>
          </a:xfrm>
          <a:prstGeom prst="wedgeRectCallout">
            <a:avLst>
              <a:gd name="adj1" fmla="val -115328"/>
              <a:gd name="adj2" fmla="val 69347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019920" y="533520"/>
            <a:ext cx="2209680" cy="21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entury Gothic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 - Inserire le informazion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Century Gothic"/>
              </a:rPr>
              <a:t>Dati Catastali</a:t>
            </a: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75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Provincia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75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Comune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75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Foglio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75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Particell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Century Gothic"/>
              </a:rPr>
              <a:t>Dati del Possess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75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Forma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75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Superficie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75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Data Iniz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743200" y="457200"/>
            <a:ext cx="2286000" cy="8380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819520" y="457200"/>
            <a:ext cx="2133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Come inserire un Nuovo Possesso in Azienda su una Particella  prelevata dall’Archivio Terren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791320" y="5562720"/>
            <a:ext cx="2514600" cy="609480"/>
          </a:xfrm>
          <a:prstGeom prst="wedgeRectCallout">
            <a:avLst>
              <a:gd name="adj1" fmla="val -76263"/>
              <a:gd name="adj2" fmla="val -36717"/>
            </a:avLst>
          </a:prstGeom>
          <a:solidFill>
            <a:srgbClr val="e5f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791320" y="5562720"/>
            <a:ext cx="2361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N.B. Non è consentito inserire possessi futuri (maggiore rispetto la data di sistem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E3E6F-92B0-4CBD-9ED3-E5AD8B16E74B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6400800" y="609480"/>
            <a:ext cx="2133720" cy="762120"/>
          </a:xfrm>
          <a:prstGeom prst="wedgeRectCallout">
            <a:avLst>
              <a:gd name="adj1" fmla="val -79388"/>
              <a:gd name="adj2" fmla="val 40625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477120" y="762120"/>
            <a:ext cx="2133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Messaggio di avvenuta registrazione del Possess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934320" y="4724280"/>
            <a:ext cx="2133360" cy="762120"/>
          </a:xfrm>
          <a:prstGeom prst="wedgeRectCallout">
            <a:avLst>
              <a:gd name="adj1" fmla="val -164212"/>
              <a:gd name="adj2" fmla="val 7375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7010280" y="4800600"/>
            <a:ext cx="2133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Indicazione automatica di Supero della superficie catast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entury Gothic"/>
              </a:rPr>
              <a:t>Azienda: Inserimento Nuovo Possesso (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AB189-72D3-4B92-A720-804F2B6048D3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entury Gothic"/>
              </a:rPr>
              <a:t>Azienda: Nuova Particella (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57800" y="4724280"/>
            <a:ext cx="2133720" cy="1067040"/>
          </a:xfrm>
          <a:prstGeom prst="wedgeRectCallout">
            <a:avLst>
              <a:gd name="adj1" fmla="val -46351"/>
              <a:gd name="adj2" fmla="val -136606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334120" y="4724280"/>
            <a:ext cx="213336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entury Gothic"/>
              </a:rPr>
              <a:t>Cliccare qui per </a:t>
            </a:r>
            <a:r>
              <a:rPr b="1" lang="it-IT" sz="1200" spc="-1" strike="noStrike">
                <a:solidFill>
                  <a:srgbClr val="000000"/>
                </a:solidFill>
                <a:latin typeface="Century Gothic"/>
              </a:rPr>
              <a:t>proseguire</a:t>
            </a:r>
            <a:r>
              <a:rPr b="0" lang="it-IT" sz="1200" spc="-1" strike="noStrike">
                <a:solidFill>
                  <a:srgbClr val="000000"/>
                </a:solidFill>
                <a:latin typeface="Century Gothic"/>
              </a:rPr>
              <a:t> con l’inserimento di una Nuova Particella in Archivio Terren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952880" y="533520"/>
            <a:ext cx="2438640" cy="9903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029200" y="609480"/>
            <a:ext cx="2590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Esempio di inserimento di un  Nuovo Possesso su una Particella </a:t>
            </a:r>
            <a:r>
              <a:rPr b="1" lang="en-US" sz="1200" spc="-1" strike="noStrike">
                <a:solidFill>
                  <a:srgbClr val="000000"/>
                </a:solidFill>
                <a:latin typeface="Century Gothic"/>
              </a:rPr>
              <a:t>non</a:t>
            </a: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 presente in Archivio Terren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257800" y="1981080"/>
            <a:ext cx="2133720" cy="914400"/>
          </a:xfrm>
          <a:prstGeom prst="wedgeRectCallout">
            <a:avLst>
              <a:gd name="adj1" fmla="val -100148"/>
              <a:gd name="adj2" fmla="val 12847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334120" y="2057400"/>
            <a:ext cx="2133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E’ l’avviso che la Particella, su cui si sta inserendo il Possesso, non esiste in Archivio Terren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A8FDF-F3E1-4307-836D-6622A49E311A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entury Gothic"/>
              </a:rPr>
              <a:t>Azienda: Nuova Particella (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114800" y="4267080"/>
            <a:ext cx="4114800" cy="1371600"/>
          </a:xfrm>
          <a:prstGeom prst="wedgeRectCallout">
            <a:avLst>
              <a:gd name="adj1" fmla="val -64467"/>
              <a:gd name="adj2" fmla="val -45717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114800" y="4267080"/>
            <a:ext cx="4191120" cy="11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entury Gothic"/>
              </a:rPr>
              <a:t>Selezionare l’ Evento che individua la nascita della nuova Particella in Archivio Terreni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Century Gothic"/>
              </a:rPr>
              <a:t>Inserimento</a:t>
            </a:r>
            <a:r>
              <a:rPr b="0" lang="it-IT" sz="1200" spc="-1" strike="noStrike">
                <a:solidFill>
                  <a:srgbClr val="000000"/>
                </a:solidFill>
                <a:latin typeface="Century Gothic"/>
              </a:rPr>
              <a:t> della nuova Particel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Century Gothic"/>
              </a:rPr>
              <a:t>Accorpamento</a:t>
            </a:r>
            <a:r>
              <a:rPr b="0" lang="it-IT" sz="1200" spc="-1" strike="noStrike">
                <a:solidFill>
                  <a:srgbClr val="000000"/>
                </a:solidFill>
                <a:latin typeface="Century Gothic"/>
              </a:rPr>
              <a:t> di 2 o più Particelle in una nuov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Century Gothic"/>
              </a:rPr>
              <a:t>Frazionamento</a:t>
            </a:r>
            <a:r>
              <a:rPr b="0" lang="it-IT" sz="1200" spc="-1" strike="noStrike">
                <a:solidFill>
                  <a:srgbClr val="000000"/>
                </a:solidFill>
                <a:latin typeface="Century Gothic"/>
              </a:rPr>
              <a:t> di 1 Particella in una nuov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92C22-13C3-4DD6-AED9-3C99C6A11942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entury Gothic"/>
              </a:rPr>
              <a:t>Azienda: Nuova Particella - Evento di Inserimento (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85800" y="2438280"/>
            <a:ext cx="1828800" cy="838440"/>
          </a:xfrm>
          <a:prstGeom prst="wedgeRectCallout">
            <a:avLst>
              <a:gd name="adj1" fmla="val 32291"/>
              <a:gd name="adj2" fmla="val 82384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762120" y="2514600"/>
            <a:ext cx="1676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Century Gothic"/>
              </a:rPr>
              <a:t>2</a:t>
            </a:r>
            <a:r>
              <a:rPr b="0" lang="it-IT" sz="1200" spc="-1" strike="noStrike">
                <a:solidFill>
                  <a:srgbClr val="000000"/>
                </a:solidFill>
                <a:latin typeface="Century Gothic"/>
              </a:rPr>
              <a:t> - Cliccare qui  per </a:t>
            </a:r>
            <a:r>
              <a:rPr b="1" lang="it-IT" sz="1200" spc="-1" strike="noStrike">
                <a:solidFill>
                  <a:srgbClr val="000000"/>
                </a:solidFill>
                <a:latin typeface="Century Gothic"/>
              </a:rPr>
              <a:t>inserire</a:t>
            </a:r>
            <a:r>
              <a:rPr b="0" lang="it-IT" sz="1200" spc="-1" strike="noStrike">
                <a:solidFill>
                  <a:srgbClr val="000000"/>
                </a:solidFill>
                <a:latin typeface="Century Gothic"/>
              </a:rPr>
              <a:t> la Particella in Archivio Terren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952880" y="1295280"/>
            <a:ext cx="2133720" cy="838440"/>
          </a:xfrm>
          <a:prstGeom prst="wedgeRectCallout">
            <a:avLst>
              <a:gd name="adj1" fmla="val -51564"/>
              <a:gd name="adj2" fmla="val 272537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029200" y="1295280"/>
            <a:ext cx="1981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entury Gothic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 - Inserire la </a:t>
            </a:r>
            <a:r>
              <a:rPr b="1" lang="en-US" sz="1200" spc="-1" strike="noStrike">
                <a:solidFill>
                  <a:srgbClr val="000000"/>
                </a:solidFill>
                <a:latin typeface="Century Gothic"/>
              </a:rPr>
              <a:t>Superficie Catastale</a:t>
            </a: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 e la </a:t>
            </a:r>
            <a:r>
              <a:rPr b="1" lang="en-US" sz="1200" spc="-1" strike="noStrike">
                <a:solidFill>
                  <a:srgbClr val="000000"/>
                </a:solidFill>
                <a:latin typeface="Century Gothic"/>
              </a:rPr>
              <a:t>Data Inizio</a:t>
            </a: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 della Particella Catast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172200" y="4114800"/>
            <a:ext cx="2057400" cy="609480"/>
          </a:xfrm>
          <a:prstGeom prst="wedgeRectCallout">
            <a:avLst>
              <a:gd name="adj1" fmla="val -54476"/>
              <a:gd name="adj2" fmla="val -131773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41911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Century Gothic"/>
              </a:rPr>
              <a:t>3</a:t>
            </a:r>
            <a:r>
              <a:rPr b="0" lang="it-IT" sz="1200" spc="-1" strike="noStrike">
                <a:solidFill>
                  <a:srgbClr val="000000"/>
                </a:solidFill>
                <a:latin typeface="Century Gothic"/>
              </a:rPr>
              <a:t> - Cliccare qui per </a:t>
            </a:r>
            <a:r>
              <a:rPr b="1" lang="it-IT" sz="1200" spc="-1" strike="noStrike">
                <a:solidFill>
                  <a:srgbClr val="000000"/>
                </a:solidFill>
                <a:latin typeface="Century Gothic"/>
              </a:rPr>
              <a:t>confermare</a:t>
            </a:r>
            <a:r>
              <a:rPr b="0" lang="it-IT" sz="1200" spc="-1" strike="noStrike">
                <a:solidFill>
                  <a:srgbClr val="000000"/>
                </a:solidFill>
                <a:latin typeface="Century Gothic"/>
              </a:rPr>
              <a:t> l’inserime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1F7A2-ABB5-4357-9DEE-CDA14B7D255F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entury Gothic"/>
              </a:rPr>
              <a:t>Azienda: Nuova Particella - Evento di Inserimento (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85800" y="4572000"/>
            <a:ext cx="1523880" cy="838080"/>
          </a:xfrm>
          <a:prstGeom prst="wedgeRectCallout">
            <a:avLst>
              <a:gd name="adj1" fmla="val 33125"/>
              <a:gd name="adj2" fmla="val -19375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62120" y="4648320"/>
            <a:ext cx="14475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Century Gothic"/>
              </a:rPr>
              <a:t>2</a:t>
            </a:r>
            <a:r>
              <a:rPr b="0" lang="it-IT" sz="1200" spc="-1" strike="noStrike">
                <a:solidFill>
                  <a:srgbClr val="000000"/>
                </a:solidFill>
                <a:latin typeface="Century Gothic"/>
              </a:rPr>
              <a:t> - Cliccare qui  per </a:t>
            </a:r>
            <a:r>
              <a:rPr b="1" lang="it-IT" sz="1200" spc="-1" strike="noStrike">
                <a:solidFill>
                  <a:srgbClr val="000000"/>
                </a:solidFill>
                <a:latin typeface="Century Gothic"/>
              </a:rPr>
              <a:t>aggiornare </a:t>
            </a:r>
            <a:r>
              <a:rPr b="0" lang="it-IT" sz="1200" spc="-1" strike="noStrike">
                <a:solidFill>
                  <a:srgbClr val="000000"/>
                </a:solidFill>
                <a:latin typeface="Century Gothic"/>
              </a:rPr>
              <a:t>il possess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19920" y="838080"/>
            <a:ext cx="2971800" cy="2057400"/>
          </a:xfrm>
          <a:prstGeom prst="wedgeRectCallout">
            <a:avLst>
              <a:gd name="adj1" fmla="val -64263"/>
              <a:gd name="adj2" fmla="val -17745"/>
            </a:avLst>
          </a:prstGeom>
          <a:solidFill>
            <a:srgbClr val="e5f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019920" y="914400"/>
            <a:ext cx="2971800" cy="202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Messaggi delle operazione eseguite in Anagraf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1) Inserimento della nuova Particella in Archivio Terren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2) Inserimento del Possesso sulla nuova Particella in Anagraf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3) Registrazione dell’evento di nascita della nuova Particella (Nuovo inseriment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334120" y="3276720"/>
            <a:ext cx="3504960" cy="990360"/>
          </a:xfrm>
          <a:prstGeom prst="wedgeRectCallout">
            <a:avLst>
              <a:gd name="adj1" fmla="val -69884"/>
              <a:gd name="adj2" fmla="val 96634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4120" y="3276720"/>
            <a:ext cx="3504960" cy="94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entury Gothic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- Inserire le informazioni sul Possesso della Particella, in particolare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entury Gothic"/>
              </a:rPr>
              <a:t>Superficie Possess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entury Gothic"/>
              </a:rPr>
              <a:t>Data inizio Possess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0D68B-0744-4368-B86E-44EDCD702C2A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entury Gothic"/>
              </a:rPr>
              <a:t>Azienda: Nuova Particella - Evento di Accorpamento (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838080" y="4419720"/>
            <a:ext cx="1676520" cy="761760"/>
          </a:xfrm>
          <a:prstGeom prst="wedgeRectCallout">
            <a:avLst>
              <a:gd name="adj1" fmla="val 94412"/>
              <a:gd name="adj2" fmla="val -65833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838080" y="4419720"/>
            <a:ext cx="16765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Century Gothic"/>
              </a:rPr>
              <a:t>2</a:t>
            </a:r>
            <a:r>
              <a:rPr b="0" lang="it-IT" sz="1200" spc="-1" strike="noStrike">
                <a:solidFill>
                  <a:srgbClr val="000000"/>
                </a:solidFill>
                <a:latin typeface="Century Gothic"/>
              </a:rPr>
              <a:t> - Cliccare qui  creare la </a:t>
            </a:r>
            <a:r>
              <a:rPr b="1" lang="it-IT" sz="1200" spc="-1" strike="noStrike">
                <a:solidFill>
                  <a:srgbClr val="000000"/>
                </a:solidFill>
                <a:latin typeface="Century Gothic"/>
              </a:rPr>
              <a:t>lista</a:t>
            </a:r>
            <a:r>
              <a:rPr b="0" lang="it-IT" sz="1200" spc="-1" strike="noStrike">
                <a:solidFill>
                  <a:srgbClr val="000000"/>
                </a:solidFill>
                <a:latin typeface="Century Gothic"/>
              </a:rPr>
              <a:t> delle Particelle da uni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400800" y="1752480"/>
            <a:ext cx="1752480" cy="990720"/>
          </a:xfrm>
          <a:prstGeom prst="wedgeRectCallout">
            <a:avLst>
              <a:gd name="adj1" fmla="val -75180"/>
              <a:gd name="adj2" fmla="val 9343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400800" y="1752480"/>
            <a:ext cx="18288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Century Gothic"/>
              </a:rPr>
              <a:t>1</a:t>
            </a:r>
            <a:r>
              <a:rPr b="0" lang="it-IT" sz="1200" spc="-1" strike="noStrike">
                <a:solidFill>
                  <a:srgbClr val="000000"/>
                </a:solidFill>
                <a:latin typeface="Century Gothic"/>
              </a:rPr>
              <a:t> - </a:t>
            </a:r>
            <a:r>
              <a:rPr b="1" lang="it-IT" sz="1200" spc="-1" strike="noStrike">
                <a:solidFill>
                  <a:srgbClr val="000000"/>
                </a:solidFill>
                <a:latin typeface="Century Gothic"/>
              </a:rPr>
              <a:t>Pre-inseriti </a:t>
            </a:r>
            <a:r>
              <a:rPr b="0" lang="it-IT" sz="1200" spc="-1" strike="noStrike">
                <a:solidFill>
                  <a:srgbClr val="000000"/>
                </a:solidFill>
                <a:latin typeface="Century Gothic"/>
              </a:rPr>
              <a:t>tutti i dati catastali oggetto dell’accorpamento ad esclusione della particel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419720" y="5867280"/>
            <a:ext cx="2514600" cy="838440"/>
          </a:xfrm>
          <a:prstGeom prst="wedgeRectCallout">
            <a:avLst>
              <a:gd name="adj1" fmla="val -14143"/>
              <a:gd name="adj2" fmla="val -8731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419720" y="5867280"/>
            <a:ext cx="2666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entury Gothic"/>
              </a:rPr>
              <a:t>Al temine, cliccare qui per </a:t>
            </a:r>
            <a:r>
              <a:rPr b="1" lang="it-IT" sz="1200" spc="-1" strike="noStrike">
                <a:solidFill>
                  <a:srgbClr val="000000"/>
                </a:solidFill>
                <a:latin typeface="Century Gothic"/>
              </a:rPr>
              <a:t>eseguire</a:t>
            </a:r>
            <a:r>
              <a:rPr b="0" lang="it-IT" sz="1200" spc="-1" strike="noStrike">
                <a:solidFill>
                  <a:srgbClr val="000000"/>
                </a:solidFill>
                <a:latin typeface="Century Gothic"/>
              </a:rPr>
              <a:t> l’operazione di accorpamento delle Particelle elenc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FC7FE-5AB9-4DCF-BC45-EEBAD5F1BABB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entury Gothic"/>
              </a:rPr>
              <a:t>Azienda: Nuova Particella - Evento di Accorpamento (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80880" y="4495680"/>
            <a:ext cx="1828800" cy="533520"/>
          </a:xfrm>
          <a:prstGeom prst="wedgeRectCallout">
            <a:avLst>
              <a:gd name="adj1" fmla="val 41148"/>
              <a:gd name="adj2" fmla="val -211606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80880" y="4495680"/>
            <a:ext cx="1676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Century Gothic"/>
              </a:rPr>
              <a:t>1</a:t>
            </a:r>
            <a:r>
              <a:rPr b="0" lang="it-IT" sz="1200" spc="-1" strike="noStrike">
                <a:solidFill>
                  <a:srgbClr val="000000"/>
                </a:solidFill>
                <a:latin typeface="Century Gothic"/>
              </a:rPr>
              <a:t> - Cliccare qui  per </a:t>
            </a:r>
            <a:r>
              <a:rPr b="1" lang="it-IT" sz="1200" spc="-1" strike="noStrike">
                <a:solidFill>
                  <a:srgbClr val="000000"/>
                </a:solidFill>
                <a:latin typeface="Century Gothic"/>
              </a:rPr>
              <a:t>aggiorn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400800" y="685800"/>
            <a:ext cx="2209680" cy="609480"/>
          </a:xfrm>
          <a:prstGeom prst="wedgeRectCallout">
            <a:avLst>
              <a:gd name="adj1" fmla="val -62282"/>
              <a:gd name="adj2" fmla="val 89324"/>
            </a:avLst>
          </a:prstGeom>
          <a:solidFill>
            <a:srgbClr val="e5f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477120" y="685800"/>
            <a:ext cx="2209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Il messaggio indica come terminare  l’evento di Accorpame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781680" y="4267080"/>
            <a:ext cx="1828800" cy="533520"/>
          </a:xfrm>
          <a:prstGeom prst="wedgeRectCallout">
            <a:avLst>
              <a:gd name="adj1" fmla="val -98263"/>
              <a:gd name="adj2" fmla="val -144347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4343400"/>
            <a:ext cx="1676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Century Gothic"/>
              </a:rPr>
              <a:t>2</a:t>
            </a:r>
            <a:r>
              <a:rPr b="0" lang="it-IT" sz="1200" spc="-1" strike="noStrike">
                <a:solidFill>
                  <a:srgbClr val="000000"/>
                </a:solidFill>
                <a:latin typeface="Century Gothic"/>
              </a:rPr>
              <a:t> - Cliccare qui  per </a:t>
            </a:r>
            <a:r>
              <a:rPr b="1" lang="it-IT" sz="1200" spc="-1" strike="noStrike">
                <a:solidFill>
                  <a:srgbClr val="000000"/>
                </a:solidFill>
                <a:latin typeface="Century Gothic"/>
              </a:rPr>
              <a:t>conferm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5235480" y="5603760"/>
            <a:ext cx="23637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562720" y="5410080"/>
            <a:ext cx="2895480" cy="1447920"/>
          </a:xfrm>
          <a:prstGeom prst="wedgeRectCallout">
            <a:avLst>
              <a:gd name="adj1" fmla="val -32564"/>
              <a:gd name="adj2" fmla="val -70615"/>
            </a:avLst>
          </a:prstGeom>
          <a:solidFill>
            <a:srgbClr val="e5f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638680" y="5410080"/>
            <a:ext cx="26672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Questa è la fonte quando si è inserita una particella </a:t>
            </a:r>
            <a:r>
              <a:rPr b="1" lang="en-US" sz="1200" spc="-1" strike="noStrike">
                <a:solidFill>
                  <a:srgbClr val="000000"/>
                </a:solidFill>
                <a:latin typeface="Century Gothic"/>
              </a:rPr>
              <a:t>priva di numerazione</a:t>
            </a: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Se invece la particella era numerata la fonte si distingue tra “numerazione provvisoria” o “numerazione definitiva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25EFB-A853-48DB-847C-D93E3EB5051F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609480" y="380880"/>
            <a:ext cx="7925040" cy="598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4) La </a:t>
            </a:r>
            <a:r>
              <a:rPr b="1" lang="it-IT" sz="1200" spc="-1" strike="noStrike">
                <a:solidFill>
                  <a:srgbClr val="000000"/>
                </a:solidFill>
                <a:latin typeface="Verdana"/>
              </a:rPr>
              <a:t>FONTE informativa</a:t>
            </a: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 della </a:t>
            </a:r>
            <a:r>
              <a:rPr b="0" lang="it-IT" sz="1200" spc="-1" strike="noStrike" u="sng">
                <a:solidFill>
                  <a:srgbClr val="000000"/>
                </a:solidFill>
                <a:uFillTx/>
                <a:latin typeface="Verdana"/>
              </a:rPr>
              <a:t>PARTICELLA</a:t>
            </a: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 ha origine da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entury Gothic"/>
              </a:rPr>
              <a:t>“</a:t>
            </a:r>
            <a:r>
              <a:rPr b="0" lang="it-IT" sz="1200" spc="-1" strike="noStrike">
                <a:solidFill>
                  <a:srgbClr val="000000"/>
                </a:solidFill>
                <a:latin typeface="Century Gothic"/>
              </a:rPr>
              <a:t>AGEA-CATASTALE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entury Gothic"/>
              </a:rPr>
              <a:t>“</a:t>
            </a:r>
            <a:r>
              <a:rPr b="0" lang="it-IT" sz="1200" spc="-1" strike="noStrike">
                <a:solidFill>
                  <a:srgbClr val="000000"/>
                </a:solidFill>
                <a:latin typeface="Century Gothic"/>
              </a:rPr>
              <a:t>AGEA-CONTROLLO CON FOTO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entury Gothic"/>
              </a:rPr>
              <a:t>“</a:t>
            </a:r>
            <a:r>
              <a:rPr b="0" lang="it-IT" sz="1200" spc="-1" strike="noStrike">
                <a:solidFill>
                  <a:srgbClr val="000000"/>
                </a:solidFill>
                <a:latin typeface="Century Gothic"/>
              </a:rPr>
              <a:t>AGEA-CONTROLLO OGGETTIVO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entury Gothic"/>
              </a:rPr>
              <a:t>“</a:t>
            </a:r>
            <a:r>
              <a:rPr b="0" lang="it-IT" sz="1200" spc="-1" strike="noStrike">
                <a:solidFill>
                  <a:srgbClr val="000000"/>
                </a:solidFill>
                <a:latin typeface="Century Gothic"/>
              </a:rPr>
              <a:t>PAC SEMINATIVI 2003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In seguito a Eventi di Creazione o Modifica la nuova FONTE della PARTICELLA diventa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entury Gothic"/>
              </a:rPr>
              <a:t>“</a:t>
            </a:r>
            <a:r>
              <a:rPr b="0" lang="it-IT" sz="1200" spc="-1" strike="noStrike">
                <a:solidFill>
                  <a:srgbClr val="000000"/>
                </a:solidFill>
                <a:latin typeface="Century Gothic"/>
              </a:rPr>
              <a:t>SENZA NUMERAZIONE CATASTALE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entury Gothic"/>
              </a:rPr>
              <a:t>“</a:t>
            </a:r>
            <a:r>
              <a:rPr b="0" lang="it-IT" sz="1200" spc="-1" strike="noStrike">
                <a:solidFill>
                  <a:srgbClr val="000000"/>
                </a:solidFill>
                <a:latin typeface="Century Gothic"/>
              </a:rPr>
              <a:t>PROVVISORIO CATASTALE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entury Gothic"/>
              </a:rPr>
              <a:t>“</a:t>
            </a:r>
            <a:r>
              <a:rPr b="0" lang="it-IT" sz="1200" spc="-1" strike="noStrike">
                <a:solidFill>
                  <a:srgbClr val="000000"/>
                </a:solidFill>
                <a:latin typeface="Century Gothic"/>
              </a:rPr>
              <a:t>DEFINITIVO CATASTALE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5) Al </a:t>
            </a:r>
            <a:r>
              <a:rPr b="0" lang="it-IT" sz="1200" spc="-1" strike="noStrike" u="sng">
                <a:solidFill>
                  <a:srgbClr val="000000"/>
                </a:solidFill>
                <a:uFillTx/>
                <a:latin typeface="Verdana"/>
              </a:rPr>
              <a:t>primo accesso all’Anagrafe</a:t>
            </a: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, verrà richiesto a ciascun Utente di modificare la Password personale. La sua validità è di 90 giorni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Regole di costruzione della </a:t>
            </a:r>
            <a:r>
              <a:rPr b="1" lang="it-IT" sz="1200" spc="-1" strike="noStrike">
                <a:solidFill>
                  <a:srgbClr val="000000"/>
                </a:solidFill>
                <a:latin typeface="Verdana"/>
              </a:rPr>
              <a:t>Password</a:t>
            </a: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deve essere composta di 8 caratteri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deve contenere almeno 1 caratteri numerici (0 1 2 ... 9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deve contenere almeno 1 caratteri speciali o di punteggiatura (! % # . ; ? $ &lt; / | _    ecc...)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6) L’accesso all’Anagrafe è impedito dopo </a:t>
            </a:r>
            <a:r>
              <a:rPr b="1" lang="it-IT" sz="1200" spc="-1" strike="noStrike">
                <a:solidFill>
                  <a:srgbClr val="000000"/>
                </a:solidFill>
                <a:latin typeface="Verdana"/>
              </a:rPr>
              <a:t>3 tentativi consecutivi</a:t>
            </a: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 non corretti di Login (Contattare i referenti dell’Assistenza per riattivare la procedura di riconoscimento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7) Ad ogni collegamento con l’Anagrafe viene presentata come pagina iniziale la </a:t>
            </a:r>
            <a:r>
              <a:rPr b="1" lang="it-IT" sz="1200" spc="-1" strike="noStrike">
                <a:solidFill>
                  <a:srgbClr val="000000"/>
                </a:solidFill>
                <a:latin typeface="Verdana"/>
              </a:rPr>
              <a:t>Lista Messaggi</a:t>
            </a: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 (solo se esistono messaggi validi durante l’accesso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0CB65-FE92-4A16-AFBE-7F6C18B2D81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entury Gothic"/>
              </a:rPr>
              <a:t>Azienda: Nuova Particella - Evento di Accorpamento  (3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172200" y="2666880"/>
            <a:ext cx="2743200" cy="3429000"/>
          </a:xfrm>
          <a:prstGeom prst="wedgeRectCallout">
            <a:avLst>
              <a:gd name="adj1" fmla="val -35532"/>
              <a:gd name="adj2" fmla="val -57916"/>
            </a:avLst>
          </a:prstGeom>
          <a:solidFill>
            <a:srgbClr val="e5f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248520" y="2743200"/>
            <a:ext cx="2666880" cy="33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Messaggi che indicano le operazioni eseguite in Anagraf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1) Inserimento della nuova Particella in Archivio Terren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2) Inserimento del Possesso sulla nuova Particella in Anagraf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3) Cessazione (inserita la data fine) della Particella  accorpata in Archivio Terreni (</a:t>
            </a:r>
            <a:r>
              <a:rPr b="1" lang="en-US" sz="1200" spc="-1" strike="noStrike">
                <a:solidFill>
                  <a:srgbClr val="000000"/>
                </a:solidFill>
                <a:latin typeface="Century Gothic"/>
              </a:rPr>
              <a:t>Contenzioso</a:t>
            </a: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4) Cessazione (inserita la data fine) della Particella  accorpata in Archivio Terreni  (</a:t>
            </a:r>
            <a:r>
              <a:rPr b="1" lang="en-US" sz="1200" spc="-1" strike="noStrike">
                <a:solidFill>
                  <a:srgbClr val="000000"/>
                </a:solidFill>
                <a:latin typeface="Century Gothic"/>
              </a:rPr>
              <a:t>Contenzioso</a:t>
            </a: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5) Registrazione dei 2 Eventi di nascita della nuova Particella (Accorpament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837FF-69D7-432E-99F4-1E21657064C2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entury Gothic"/>
              </a:rPr>
              <a:t>Azienda: Nuova Particella - Evento di Accorpamento (4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495680" y="2819520"/>
            <a:ext cx="2819520" cy="7617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572000" y="2895480"/>
            <a:ext cx="2666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Lista degli eventi di creazione della nuova Particella in Archivio Terreni (Accorpament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638680" y="5105520"/>
            <a:ext cx="1905120" cy="380880"/>
          </a:xfrm>
          <a:prstGeom prst="wedgeRectCallout">
            <a:avLst>
              <a:gd name="adj1" fmla="val -12166"/>
              <a:gd name="adj2" fmla="val -158333"/>
            </a:avLst>
          </a:prstGeom>
          <a:solidFill>
            <a:srgbClr val="e5f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715000" y="5181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Particelle Accorp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4038480" y="1295280"/>
            <a:ext cx="3048120" cy="1067040"/>
          </a:xfrm>
          <a:prstGeom prst="wedgeRectCallout">
            <a:avLst>
              <a:gd name="adj1" fmla="val -75884"/>
              <a:gd name="adj2" fmla="val 65773"/>
            </a:avLst>
          </a:prstGeom>
          <a:solidFill>
            <a:srgbClr val="e5f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14800" y="1371600"/>
            <a:ext cx="2895480" cy="9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Nuova Particell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N.B. Quando la fonte</a:t>
            </a:r>
            <a:r>
              <a:rPr b="1" lang="en-US" sz="12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è</a:t>
            </a:r>
            <a:r>
              <a:rPr b="1" lang="en-US" sz="1200" spc="-1" strike="noStrike">
                <a:solidFill>
                  <a:srgbClr val="000000"/>
                </a:solidFill>
                <a:latin typeface="Century Gothic"/>
              </a:rPr>
              <a:t> senza numerazione catastale</a:t>
            </a: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, il numero della particella è maggiore di 9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DBDA7-F2C1-4406-9D39-7C7CE3F9513B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entury Gothic"/>
              </a:rPr>
              <a:t>Azienda: Nuova Particella - Evento di Frazionamento (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781680" y="4191120"/>
            <a:ext cx="1828800" cy="1066680"/>
          </a:xfrm>
          <a:prstGeom prst="wedgeRectCallout">
            <a:avLst>
              <a:gd name="adj1" fmla="val -94009"/>
              <a:gd name="adj2" fmla="val -27680"/>
            </a:avLst>
          </a:prstGeom>
          <a:solidFill>
            <a:srgbClr val="e5f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781680" y="4191120"/>
            <a:ext cx="19051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N.B.La superficie della nuova Particella </a:t>
            </a:r>
            <a:r>
              <a:rPr b="1" lang="en-US" sz="1200" spc="-1" strike="noStrike">
                <a:solidFill>
                  <a:srgbClr val="000000"/>
                </a:solidFill>
                <a:latin typeface="Century Gothic"/>
              </a:rPr>
              <a:t>non</a:t>
            </a: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 deve superare la superficie della Particella frazion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04920" y="3809880"/>
            <a:ext cx="1981080" cy="914400"/>
          </a:xfrm>
          <a:prstGeom prst="wedgeRectCallout">
            <a:avLst>
              <a:gd name="adj1" fmla="val 105129"/>
              <a:gd name="adj2" fmla="val 61111"/>
            </a:avLst>
          </a:prstGeom>
          <a:solidFill>
            <a:srgbClr val="e5f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04920" y="3886200"/>
            <a:ext cx="1981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N.B. </a:t>
            </a:r>
            <a:r>
              <a:rPr b="1" lang="en-US" sz="1200" spc="-1" strike="noStrike">
                <a:solidFill>
                  <a:srgbClr val="000000"/>
                </a:solidFill>
                <a:latin typeface="Century Gothic"/>
              </a:rPr>
              <a:t>Non</a:t>
            </a: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 è consentito inserire eventi futuri (maggiore rispetto la data di sistem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181480" y="5638680"/>
            <a:ext cx="2133720" cy="685800"/>
          </a:xfrm>
          <a:prstGeom prst="wedgeRectCallout">
            <a:avLst>
              <a:gd name="adj1" fmla="val -41740"/>
              <a:gd name="adj2" fmla="val -118518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334120" y="5638680"/>
            <a:ext cx="1676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Century Gothic"/>
              </a:rPr>
              <a:t>2 </a:t>
            </a:r>
            <a:r>
              <a:rPr b="0" lang="it-IT" sz="1200" spc="-1" strike="noStrike">
                <a:solidFill>
                  <a:srgbClr val="000000"/>
                </a:solidFill>
                <a:latin typeface="Century Gothic"/>
              </a:rPr>
              <a:t>- Cliccare qui per proseguire con il frazioname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400800" y="1981080"/>
            <a:ext cx="2514600" cy="914400"/>
          </a:xfrm>
          <a:prstGeom prst="wedgeRectCallout">
            <a:avLst>
              <a:gd name="adj1" fmla="val -66476"/>
              <a:gd name="adj2" fmla="val 159375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477120" y="2057400"/>
            <a:ext cx="2361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Century Gothic"/>
              </a:rPr>
              <a:t>1 - Pre-inseriti</a:t>
            </a:r>
            <a:r>
              <a:rPr b="0" lang="it-IT" sz="1200" spc="-1" strike="noStrike">
                <a:solidFill>
                  <a:srgbClr val="000000"/>
                </a:solidFill>
                <a:latin typeface="Century Gothic"/>
              </a:rPr>
              <a:t> tutti i dati Catastali della Particella oggetto del frazionamento ad esclusione della </a:t>
            </a:r>
            <a:r>
              <a:rPr b="0" lang="it-IT" sz="1200" spc="-1" strike="noStrike" u="sng">
                <a:solidFill>
                  <a:srgbClr val="000000"/>
                </a:solidFill>
                <a:uFillTx/>
                <a:latin typeface="Century Gothic"/>
              </a:rPr>
              <a:t>Particel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7D48B-2470-4785-8A24-1D702257B0AD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entury Gothic"/>
              </a:rPr>
              <a:t>Azienda: Nuova Particella - Evento di Frazionamento (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143000" y="4572000"/>
            <a:ext cx="1828800" cy="838080"/>
          </a:xfrm>
          <a:prstGeom prst="wedgeRectCallout">
            <a:avLst>
              <a:gd name="adj1" fmla="val -4337"/>
              <a:gd name="adj2" fmla="val -178787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219320" y="4648320"/>
            <a:ext cx="1676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Century Gothic"/>
              </a:rPr>
              <a:t>1</a:t>
            </a:r>
            <a:r>
              <a:rPr b="0" lang="it-IT" sz="1200" spc="-1" strike="noStrike">
                <a:solidFill>
                  <a:srgbClr val="000000"/>
                </a:solidFill>
                <a:latin typeface="Century Gothic"/>
              </a:rPr>
              <a:t> - Cliccare qui  per </a:t>
            </a:r>
            <a:r>
              <a:rPr b="1" lang="it-IT" sz="1200" spc="-1" strike="noStrike">
                <a:solidFill>
                  <a:srgbClr val="000000"/>
                </a:solidFill>
                <a:latin typeface="Century Gothic"/>
              </a:rPr>
              <a:t>inserire</a:t>
            </a:r>
            <a:r>
              <a:rPr b="0" lang="it-IT" sz="1200" spc="-1" strike="noStrike">
                <a:solidFill>
                  <a:srgbClr val="000000"/>
                </a:solidFill>
                <a:latin typeface="Century Gothic"/>
              </a:rPr>
              <a:t> il Possesso in Angraf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400800" y="533520"/>
            <a:ext cx="2057400" cy="685800"/>
          </a:xfrm>
          <a:prstGeom prst="wedgeRectCallout">
            <a:avLst>
              <a:gd name="adj1" fmla="val -27856"/>
              <a:gd name="adj2" fmla="val 74537"/>
            </a:avLst>
          </a:prstGeom>
          <a:solidFill>
            <a:srgbClr val="e5f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400800" y="533520"/>
            <a:ext cx="2133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Il messaggio indica come terminare  l’evento di Frazioname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324480" y="4267080"/>
            <a:ext cx="2057400" cy="609840"/>
          </a:xfrm>
          <a:prstGeom prst="wedgeRectCallout">
            <a:avLst>
              <a:gd name="adj1" fmla="val -53703"/>
              <a:gd name="adj2" fmla="val -163541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6400800" y="4267080"/>
            <a:ext cx="2057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Century Gothic"/>
              </a:rPr>
              <a:t>2</a:t>
            </a:r>
            <a:r>
              <a:rPr b="0" lang="it-IT" sz="1200" spc="-1" strike="noStrike">
                <a:solidFill>
                  <a:srgbClr val="000000"/>
                </a:solidFill>
                <a:latin typeface="Century Gothic"/>
              </a:rPr>
              <a:t> - Cliccare qui  per </a:t>
            </a:r>
            <a:r>
              <a:rPr b="1" lang="it-IT" sz="1200" spc="-1" strike="noStrike">
                <a:solidFill>
                  <a:srgbClr val="000000"/>
                </a:solidFill>
                <a:latin typeface="Century Gothic"/>
              </a:rPr>
              <a:t>confermare</a:t>
            </a:r>
            <a:r>
              <a:rPr b="0" lang="it-IT" sz="1200" spc="-1" strike="noStrike">
                <a:solidFill>
                  <a:srgbClr val="000000"/>
                </a:solidFill>
                <a:latin typeface="Century Gothic"/>
              </a:rPr>
              <a:t> l’inserimento del Possess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D39F6-1B68-4ABD-A4B4-9F62B12F76B5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entury Gothic"/>
              </a:rPr>
              <a:t>Azienda: Nuova Particella - Evento di Frazionamento (3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6095880" y="3048120"/>
            <a:ext cx="2743200" cy="3581280"/>
          </a:xfrm>
          <a:prstGeom prst="wedgeRectCallout">
            <a:avLst>
              <a:gd name="adj1" fmla="val -27430"/>
              <a:gd name="adj2" fmla="val -53458"/>
            </a:avLst>
          </a:prstGeom>
          <a:solidFill>
            <a:srgbClr val="e5f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172200" y="3124080"/>
            <a:ext cx="2666880" cy="349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Messaggi che indicano le operazioni eseguite in Anagrafe 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1) Inserimento della nuova Particella in archivio Terren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2) Inserimento del Possesso sulla nuova Particella in Anagraf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3) Aggiornamento (superficie catastale) della Particella  frazionata in archivio Terren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entury Gothic"/>
              </a:rPr>
              <a:t>4) Cessazione della Particella  frazionata in archivio Terreni (va in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Century Gothic"/>
              </a:rPr>
              <a:t>Contenzioso</a:t>
            </a:r>
            <a:r>
              <a:rPr b="1" lang="en-US" sz="1200" spc="-1" strike="noStrike">
                <a:solidFill>
                  <a:srgbClr val="000000"/>
                </a:solidFill>
                <a:latin typeface="Century Gothic"/>
              </a:rPr>
              <a:t>: il CAA deve cessare il possess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5) Registrazione dell’evento di nascita della nuova Particella (frazionament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B9575-6DE5-4CE9-A422-4383821EEDDF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entury Gothic"/>
              </a:rPr>
              <a:t>Azienda: Nuova Particella - Evento di Frazionamento (4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800600" y="2743200"/>
            <a:ext cx="2819520" cy="7621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876920" y="2819520"/>
            <a:ext cx="25905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Lista degli eventi di creazione della nuova Particella in archivio Terreni (frazionament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52280" y="5257800"/>
            <a:ext cx="2210040" cy="1066680"/>
          </a:xfrm>
          <a:prstGeom prst="wedgeRectCallout">
            <a:avLst>
              <a:gd name="adj1" fmla="val -2587"/>
              <a:gd name="adj2" fmla="val -131101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28600" y="5257800"/>
            <a:ext cx="2209680" cy="137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entury Gothic"/>
              </a:rPr>
              <a:t>Cliccare qui per ripristinare la particella originale (catasto e possess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entury Gothic"/>
              </a:rPr>
              <a:t>N.B. E’ abilitato solo il CAA che ha generato l’eve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5867280" y="4800600"/>
            <a:ext cx="1905120" cy="380880"/>
          </a:xfrm>
          <a:prstGeom prst="wedgeRectCallout">
            <a:avLst>
              <a:gd name="adj1" fmla="val -12166"/>
              <a:gd name="adj2" fmla="val -143333"/>
            </a:avLst>
          </a:prstGeom>
          <a:solidFill>
            <a:srgbClr val="e5f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943600" y="48769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Particelle Frazion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419720" y="1447920"/>
            <a:ext cx="1904760" cy="380880"/>
          </a:xfrm>
          <a:prstGeom prst="wedgeRectCallout">
            <a:avLst>
              <a:gd name="adj1" fmla="val -106833"/>
              <a:gd name="adj2" fmla="val 250416"/>
            </a:avLst>
          </a:prstGeom>
          <a:solidFill>
            <a:srgbClr val="e5f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95680" y="15238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Nuova particel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825B5-8008-4A76-93EE-6C1D8599F581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entury Gothic"/>
              </a:rPr>
              <a:t>Azienda: Nuova Particella - Evento di Frazionamento (5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324480" y="4495680"/>
            <a:ext cx="2590920" cy="609840"/>
          </a:xfrm>
          <a:prstGeom prst="wedgeRectCallout">
            <a:avLst>
              <a:gd name="adj1" fmla="val -104046"/>
              <a:gd name="adj2" fmla="val -64324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6324480" y="4495680"/>
            <a:ext cx="26672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N.B. </a:t>
            </a:r>
            <a:r>
              <a:rPr b="1" lang="en-US" sz="1200" spc="-1" strike="noStrike">
                <a:solidFill>
                  <a:srgbClr val="000000"/>
                </a:solidFill>
                <a:latin typeface="Century Gothic"/>
              </a:rPr>
              <a:t>Modificare</a:t>
            </a: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 la superficie Possesso della Particella frazionata (altrimenti è i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Century Gothic"/>
              </a:rPr>
              <a:t>super</a:t>
            </a: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486400" y="914400"/>
            <a:ext cx="1981080" cy="7621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562720" y="990720"/>
            <a:ext cx="19047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Possesso dell’Azienda sulla Particella oggetto del frazioname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477120" y="5562720"/>
            <a:ext cx="2590560" cy="838080"/>
          </a:xfrm>
          <a:prstGeom prst="wedgeRectCallout">
            <a:avLst>
              <a:gd name="adj1" fmla="val -102574"/>
              <a:gd name="adj2" fmla="val -19509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6477120" y="5562720"/>
            <a:ext cx="2666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N.B. </a:t>
            </a:r>
            <a:r>
              <a:rPr b="1" lang="en-US" sz="1200" spc="-1" strike="noStrike">
                <a:solidFill>
                  <a:srgbClr val="000000"/>
                </a:solidFill>
                <a:latin typeface="Century Gothic"/>
              </a:rPr>
              <a:t>Inserire</a:t>
            </a: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 la data di fine Possesso della Particella frazionata (altrimenti è i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Century Gothic"/>
              </a:rPr>
              <a:t>contenzioso</a:t>
            </a: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FBFFF-148C-41A0-81CB-921442F33F6F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entury Gothic"/>
              </a:rPr>
              <a:t>Azienda: Nuova Particella - Evento di Frazionamento (6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486400" y="914400"/>
            <a:ext cx="1981080" cy="7621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5562720" y="990720"/>
            <a:ext cx="1981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Dopo la modifica i flag di Supero e Contenzioso sono disabilitati (“N”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3E92B-3734-48B3-88A0-633582D43239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3399"/>
                </a:solidFill>
                <a:latin typeface="Century Gothic"/>
              </a:rPr>
              <a:t>Azienda: Nuova Particella - Rinumera (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3429000" y="5867280"/>
            <a:ext cx="2514600" cy="685800"/>
          </a:xfrm>
          <a:prstGeom prst="wedgeRectCallout">
            <a:avLst>
              <a:gd name="adj1" fmla="val -2148"/>
              <a:gd name="adj2" fmla="val -11875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505320" y="5867280"/>
            <a:ext cx="2361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entury Gothic"/>
              </a:rPr>
              <a:t>Cliccare qui per </a:t>
            </a:r>
            <a:r>
              <a:rPr b="1" lang="it-IT" sz="1200" spc="-1" strike="noStrike">
                <a:solidFill>
                  <a:srgbClr val="000000"/>
                </a:solidFill>
                <a:latin typeface="Century Gothic"/>
              </a:rPr>
              <a:t>assegnare</a:t>
            </a:r>
            <a:r>
              <a:rPr b="0" lang="it-IT" sz="1200" spc="-1" strike="noStrike">
                <a:solidFill>
                  <a:srgbClr val="000000"/>
                </a:solidFill>
                <a:latin typeface="Century Gothic"/>
              </a:rPr>
              <a:t> un nuovo numero alla Particel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6172200" y="5867280"/>
            <a:ext cx="2819520" cy="685800"/>
          </a:xfrm>
          <a:prstGeom prst="wedgeRectCallout">
            <a:avLst>
              <a:gd name="adj1" fmla="val -54671"/>
              <a:gd name="adj2" fmla="val -124768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6248520" y="5867280"/>
            <a:ext cx="2895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entury Gothic"/>
              </a:rPr>
              <a:t>Cliccare qui per </a:t>
            </a:r>
            <a:r>
              <a:rPr b="1" lang="it-IT" sz="1200" spc="-1" strike="noStrike">
                <a:solidFill>
                  <a:srgbClr val="000000"/>
                </a:solidFill>
                <a:latin typeface="Century Gothic"/>
              </a:rPr>
              <a:t>visualizzare</a:t>
            </a:r>
            <a:r>
              <a:rPr b="0" lang="it-IT" sz="1200" spc="-1" strike="noStrike">
                <a:solidFill>
                  <a:srgbClr val="000000"/>
                </a:solidFill>
                <a:latin typeface="Century Gothic"/>
              </a:rPr>
              <a:t> l’elenco degli eventi di creazione/modifica della Particel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0772A-8CDF-42F0-BCBC-00C957A8AEE5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3399"/>
                </a:solidFill>
                <a:latin typeface="Century Gothic"/>
              </a:rPr>
              <a:t>Azienda: Nuova Particella - Rinumera (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762120" y="5562720"/>
            <a:ext cx="1828800" cy="838080"/>
          </a:xfrm>
          <a:prstGeom prst="wedgeRectCallout">
            <a:avLst>
              <a:gd name="adj1" fmla="val 16666"/>
              <a:gd name="adj2" fmla="val -202842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838080" y="5562720"/>
            <a:ext cx="1676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Century Gothic"/>
              </a:rPr>
              <a:t>2</a:t>
            </a:r>
            <a:r>
              <a:rPr b="0" lang="it-IT" sz="1200" spc="-1" strike="noStrike">
                <a:solidFill>
                  <a:srgbClr val="000000"/>
                </a:solidFill>
                <a:latin typeface="Century Gothic"/>
              </a:rPr>
              <a:t> - Cliccare qui  per </a:t>
            </a:r>
            <a:r>
              <a:rPr b="1" lang="it-IT" sz="1200" spc="-1" strike="noStrike">
                <a:solidFill>
                  <a:srgbClr val="000000"/>
                </a:solidFill>
                <a:latin typeface="Century Gothic"/>
              </a:rPr>
              <a:t>aggiornare </a:t>
            </a:r>
            <a:r>
              <a:rPr b="0" lang="it-IT" sz="1200" spc="-1" strike="noStrike">
                <a:solidFill>
                  <a:srgbClr val="000000"/>
                </a:solidFill>
                <a:latin typeface="Century Gothic"/>
              </a:rPr>
              <a:t>la Particella in archivio Terren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572000" y="5257800"/>
            <a:ext cx="2514600" cy="609480"/>
          </a:xfrm>
          <a:prstGeom prst="wedgeRectCallout">
            <a:avLst>
              <a:gd name="adj1" fmla="val -12689"/>
              <a:gd name="adj2" fmla="val -172916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4648320" y="5257800"/>
            <a:ext cx="2361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entury Gothic"/>
              </a:rPr>
              <a:t>1 </a:t>
            </a: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- Inserire le nuove informazioni catastali della Particel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AC283-A4BD-407B-B641-3F5D5D20FB4D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609480" y="304920"/>
            <a:ext cx="7925040" cy="60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8)Nell’ inserimento in sequenza di un </a:t>
            </a:r>
            <a:r>
              <a:rPr b="1" lang="it-IT" sz="1200" spc="-1" strike="noStrike">
                <a:solidFill>
                  <a:srgbClr val="000000"/>
                </a:solidFill>
                <a:latin typeface="Verdana"/>
              </a:rPr>
              <a:t>Nuovo Possesso</a:t>
            </a: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 vengono pre-impostati tutti i campi precedenti ad esclusione del numero particella e superfici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9)Nell’inserimento di una particella per </a:t>
            </a:r>
            <a:r>
              <a:rPr b="1" lang="it-IT" sz="1200" spc="-1" strike="noStrike">
                <a:solidFill>
                  <a:srgbClr val="000000"/>
                </a:solidFill>
                <a:latin typeface="Verdana"/>
              </a:rPr>
              <a:t>Frazionamento/Accorpamento</a:t>
            </a: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 vengono pre-impostati tutti i campi della particella in oggetto ad esclusione del numero particell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10)Quando, a seguito di un evento di frazionamento/accorpamento, la superficie catastale della particella originale è azzerata, essa viene chiusa automaticamente (la data fine è impostata alla data dell’evento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Tutti  i possessi che insistono sulla particella, però, rimangono aperti. Questa situazione anomala è indicata dal </a:t>
            </a:r>
            <a:r>
              <a:rPr b="1" lang="it-IT" sz="1200" spc="-1" strike="noStrike">
                <a:solidFill>
                  <a:srgbClr val="000000"/>
                </a:solidFill>
                <a:latin typeface="Verdana"/>
              </a:rPr>
              <a:t>flag CONTENZIOSO</a:t>
            </a: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 (“S”) ove possessi aperti insistono su una particella che è cessata. La chiusura dei possessi (data fine possesso) deve essere effettuata dagli operator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11) Il </a:t>
            </a:r>
            <a:r>
              <a:rPr b="1" lang="it-IT" sz="1200" spc="-1" strike="noStrike">
                <a:solidFill>
                  <a:srgbClr val="000000"/>
                </a:solidFill>
                <a:latin typeface="Verdana"/>
              </a:rPr>
              <a:t>flag SUPERO</a:t>
            </a: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 del possesso è valorizzato (“S”) quando esistono, alla data del controllo, possessi la cui superficie,</a:t>
            </a:r>
            <a:r>
              <a:rPr b="0" lang="it-IT" sz="12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in totale, supera la la superficie catastale della particella su cui insistono di almeno 0,0100 H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12) Il </a:t>
            </a:r>
            <a:r>
              <a:rPr b="1" lang="it-IT" sz="1200" spc="-1" strike="noStrike">
                <a:solidFill>
                  <a:srgbClr val="000000"/>
                </a:solidFill>
                <a:latin typeface="Verdana"/>
              </a:rPr>
              <a:t>flag AREE</a:t>
            </a: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 del possesso indica la presenza (“S”) o assenza (“N”) di almeno una Macro Area associata</a:t>
            </a:r>
            <a:r>
              <a:rPr b="0" lang="it-IT" sz="1200" spc="-1" strike="noStrike">
                <a:solidFill>
                  <a:srgbClr val="000000"/>
                </a:solidFill>
                <a:latin typeface="Century Gothic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13) Con il simbolo di asterisco ‘*’ sono indicati tutti i </a:t>
            </a:r>
            <a:r>
              <a:rPr b="1" lang="it-IT" sz="1200" spc="-1" strike="noStrike">
                <a:solidFill>
                  <a:srgbClr val="000000"/>
                </a:solidFill>
                <a:latin typeface="Verdana"/>
              </a:rPr>
              <a:t>campi OBBLIGATORI</a:t>
            </a: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14) Tutte le </a:t>
            </a:r>
            <a:r>
              <a:rPr b="1" lang="it-IT" sz="1200" spc="-1" strike="noStrike">
                <a:solidFill>
                  <a:srgbClr val="000000"/>
                </a:solidFill>
                <a:latin typeface="Verdana"/>
              </a:rPr>
              <a:t>date SCONOSCIUTE</a:t>
            </a: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, pre-inserite automaticamente, sono valorizzate a ‘01/01/1900’: quando disponibili, aggiornare le date con il valore corrett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15) </a:t>
            </a:r>
            <a:r>
              <a:rPr b="1" lang="it-IT" sz="1200" spc="-1" strike="noStrike">
                <a:solidFill>
                  <a:srgbClr val="000000"/>
                </a:solidFill>
                <a:latin typeface="Verdana"/>
              </a:rPr>
              <a:t>Le stampe</a:t>
            </a: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 sono disponibili solo in formato .pdf: è necessario avere installato sul PC una versione di Acrobat Reader 5 o superi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16) Il </a:t>
            </a:r>
            <a:r>
              <a:rPr b="1" lang="it-IT" sz="1200" spc="-1" strike="noStrike">
                <a:solidFill>
                  <a:srgbClr val="000000"/>
                </a:solidFill>
                <a:latin typeface="Verdana"/>
              </a:rPr>
              <a:t>codice PIN</a:t>
            </a: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 con il </a:t>
            </a:r>
            <a:r>
              <a:rPr b="1" lang="it-IT" sz="1200" spc="-1" strike="noStrike">
                <a:solidFill>
                  <a:srgbClr val="000000"/>
                </a:solidFill>
                <a:latin typeface="Verdana"/>
              </a:rPr>
              <a:t>codice CUAA</a:t>
            </a: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 consente alle Aziende di visualizzare la propria situazione anagrafica attraverso il nuovo servizio Internet disponibile all’interno del sito Ermesagricoltura - Sportello agricolo denominato “Consultazione posizione anagrafica”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233C4-40ED-4236-BC1B-C74FCEBDF15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3399"/>
                </a:solidFill>
                <a:latin typeface="Century Gothic"/>
              </a:rPr>
              <a:t>Azienda: Nuova Particella - Rinumera (3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6400800" y="609480"/>
            <a:ext cx="2743200" cy="3657600"/>
          </a:xfrm>
          <a:prstGeom prst="wedgeRectCallout">
            <a:avLst>
              <a:gd name="adj1" fmla="val -84898"/>
              <a:gd name="adj2" fmla="val -25606"/>
            </a:avLst>
          </a:prstGeom>
          <a:solidFill>
            <a:srgbClr val="e5f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6477120" y="685800"/>
            <a:ext cx="2666880" cy="3395880"/>
          </a:xfrm>
          <a:prstGeom prst="rect">
            <a:avLst/>
          </a:prstGeom>
          <a:solidFill>
            <a:srgbClr val="e5f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entury Gothic"/>
              </a:rPr>
              <a:t>Messaggi che indicano le operazioni eseguite in Anagrafe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entury Gothic"/>
              </a:rPr>
              <a:t>1) Cessazione (inserita la data fine) della Particella  rinumerata in archivio Terren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entury Gothic"/>
              </a:rPr>
              <a:t>2) Cessazione (inserita la data fine) del Possesso sulla Particella rinumerata in Anagraf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entury Gothic"/>
              </a:rPr>
              <a:t>3) Inserimento della nuova Particella in archivio Terren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entury Gothic"/>
              </a:rPr>
              <a:t>4) Inserimento del Possesso sulla nuova Particella in Anagraf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entury Gothic"/>
              </a:rPr>
              <a:t>5) Registrazione dell’evento di nascita della nuova Particella (rinumerazion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F88D3-7D4D-4AE9-BF47-400B1AED3AB0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3399"/>
                </a:solidFill>
                <a:latin typeface="Century Gothic"/>
              </a:rPr>
              <a:t>Azienda: Validazi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715000" y="2133720"/>
            <a:ext cx="2286000" cy="914400"/>
          </a:xfrm>
          <a:prstGeom prst="wedgeRectCallout">
            <a:avLst>
              <a:gd name="adj1" fmla="val -76875"/>
              <a:gd name="adj2" fmla="val 22222"/>
            </a:avLst>
          </a:prstGeom>
          <a:solidFill>
            <a:srgbClr val="e5f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15000" y="22096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entury Gothic"/>
              </a:rPr>
              <a:t>Messaggio di Validazione dell’Azienda : </a:t>
            </a:r>
            <a:r>
              <a:rPr b="1" lang="it-IT" sz="1200" spc="-1" strike="noStrike">
                <a:solidFill>
                  <a:srgbClr val="000000"/>
                </a:solidFill>
                <a:latin typeface="Century Gothic"/>
              </a:rPr>
              <a:t>non</a:t>
            </a:r>
            <a:r>
              <a:rPr b="0" lang="it-IT" sz="1200" spc="-1" strike="noStrike">
                <a:solidFill>
                  <a:srgbClr val="000000"/>
                </a:solidFill>
                <a:latin typeface="Century Gothic"/>
              </a:rPr>
              <a:t> è più consentita alcuna modifica dei dati aziendal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A5933-EBD2-42EF-AE75-79A02D46A3C1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entury Gothic"/>
              </a:rPr>
              <a:t>Azienda: Invalidazi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181480" y="5638680"/>
            <a:ext cx="2514600" cy="914400"/>
          </a:xfrm>
          <a:prstGeom prst="wedgeRectCallout">
            <a:avLst>
              <a:gd name="adj1" fmla="val -24180"/>
              <a:gd name="adj2" fmla="val -94097"/>
            </a:avLst>
          </a:prstGeom>
          <a:solidFill>
            <a:srgbClr val="e5f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257800" y="571500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entury Gothic"/>
              </a:rPr>
              <a:t>Cliccare qui per Invalidare l’Azienda; i dati Aziendali, in precedenza Validati, verranno </a:t>
            </a:r>
            <a:r>
              <a:rPr b="1" lang="it-IT" sz="1200" spc="-1" strike="noStrike">
                <a:solidFill>
                  <a:srgbClr val="000000"/>
                </a:solidFill>
                <a:latin typeface="Century Gothic"/>
              </a:rPr>
              <a:t>storicizzat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4800600" y="2819520"/>
            <a:ext cx="2514600" cy="1143000"/>
          </a:xfrm>
          <a:prstGeom prst="wedgeRectCallout">
            <a:avLst>
              <a:gd name="adj1" fmla="val -98990"/>
              <a:gd name="adj2" fmla="val 56527"/>
            </a:avLst>
          </a:prstGeom>
          <a:solidFill>
            <a:srgbClr val="e5f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876920" y="2895480"/>
            <a:ext cx="236196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entury Gothic"/>
              </a:rPr>
              <a:t>Indicazione di “Azienda Validata” con le informazioni dell’</a:t>
            </a:r>
            <a:r>
              <a:rPr b="1" lang="it-IT" sz="1200" spc="-1" strike="noStrike">
                <a:solidFill>
                  <a:srgbClr val="000000"/>
                </a:solidFill>
                <a:latin typeface="Century Gothic"/>
              </a:rPr>
              <a:t>utente</a:t>
            </a:r>
            <a:r>
              <a:rPr b="0" lang="it-IT" sz="1200" spc="-1" strike="noStrike">
                <a:solidFill>
                  <a:srgbClr val="000000"/>
                </a:solidFill>
                <a:latin typeface="Century Gothic"/>
              </a:rPr>
              <a:t> e della </a:t>
            </a:r>
            <a:r>
              <a:rPr b="1" lang="it-IT" sz="1200" spc="-1" strike="noStrike">
                <a:solidFill>
                  <a:srgbClr val="000000"/>
                </a:solidFill>
                <a:latin typeface="Century Gothic"/>
              </a:rPr>
              <a:t>data di validazione </a:t>
            </a:r>
            <a:r>
              <a:rPr b="0" lang="it-IT" sz="1200" spc="-1" strike="noStrike">
                <a:solidFill>
                  <a:srgbClr val="000000"/>
                </a:solidFill>
                <a:latin typeface="Century Gothic"/>
              </a:rPr>
              <a:t>(ultimo utente e dat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0FD82-CCA6-441C-B452-28A024BF7624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entury Gothic"/>
              </a:rPr>
              <a:t>Azienda: Stamp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334120" y="4343400"/>
            <a:ext cx="1523880" cy="914400"/>
          </a:xfrm>
          <a:prstGeom prst="wedgeRectCallout">
            <a:avLst>
              <a:gd name="adj1" fmla="val -177814"/>
              <a:gd name="adj2" fmla="val -50347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334120" y="4419720"/>
            <a:ext cx="1447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Century Gothic"/>
              </a:rPr>
              <a:t>1</a:t>
            </a:r>
            <a:r>
              <a:rPr b="0" lang="it-IT" sz="1200" spc="-1" strike="noStrike">
                <a:solidFill>
                  <a:srgbClr val="000000"/>
                </a:solidFill>
                <a:latin typeface="Century Gothic"/>
              </a:rPr>
              <a:t> - Spuntare il gruppo di dati da </a:t>
            </a:r>
            <a:r>
              <a:rPr b="1" lang="it-IT" sz="1200" spc="-1" strike="noStrike">
                <a:solidFill>
                  <a:srgbClr val="000000"/>
                </a:solidFill>
                <a:latin typeface="Century Gothic"/>
              </a:rPr>
              <a:t>stampare </a:t>
            </a:r>
            <a:r>
              <a:rPr b="0" lang="it-IT" sz="1200" spc="-1" strike="noStrike">
                <a:solidFill>
                  <a:srgbClr val="000000"/>
                </a:solidFill>
                <a:latin typeface="Century Gothic"/>
              </a:rPr>
              <a:t>in</a:t>
            </a:r>
            <a:r>
              <a:rPr b="1" lang="it-IT" sz="12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it-IT" sz="1200" spc="-1" strike="noStrike">
                <a:solidFill>
                  <a:srgbClr val="000000"/>
                </a:solidFill>
                <a:latin typeface="Century Gothic"/>
              </a:rPr>
              <a:t>formato</a:t>
            </a:r>
            <a:r>
              <a:rPr b="1" lang="it-IT" sz="1200" spc="-1" strike="noStrike">
                <a:solidFill>
                  <a:srgbClr val="000000"/>
                </a:solidFill>
                <a:latin typeface="Century Gothic"/>
              </a:rPr>
              <a:t> .pd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33520" y="5867280"/>
            <a:ext cx="2133360" cy="609840"/>
          </a:xfrm>
          <a:prstGeom prst="wedgeRectCallout">
            <a:avLst>
              <a:gd name="adj1" fmla="val -13097"/>
              <a:gd name="adj2" fmla="val -212759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33520" y="5867280"/>
            <a:ext cx="2209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entury Gothic"/>
              </a:rPr>
              <a:t>2 </a:t>
            </a: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- Premere il bottone STAMPA per eseguire le </a:t>
            </a:r>
            <a:r>
              <a:rPr b="1" lang="en-US" sz="1200" spc="-1" strike="noStrike">
                <a:solidFill>
                  <a:srgbClr val="000000"/>
                </a:solidFill>
                <a:latin typeface="Century Gothic"/>
              </a:rPr>
              <a:t>stampe </a:t>
            </a: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richies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955C0-6C7E-4327-9F9A-4BF28F5D4439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3399"/>
                </a:solidFill>
                <a:latin typeface="Century Gothic"/>
              </a:rPr>
              <a:t>Azienda: Stampa .pd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248520" y="2286000"/>
            <a:ext cx="2209680" cy="1295280"/>
          </a:xfrm>
          <a:prstGeom prst="wedgeRectCallout">
            <a:avLst>
              <a:gd name="adj1" fmla="val -48203"/>
              <a:gd name="adj2" fmla="val -127328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324480" y="2362320"/>
            <a:ext cx="198144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entury Gothic"/>
              </a:rPr>
              <a:t>Cliccare qui oppure sul bottone di stampa interno ad Acrobat per eseguire fisicamente la </a:t>
            </a:r>
            <a:r>
              <a:rPr b="1" lang="it-IT" sz="1200" spc="-1" strike="noStrike">
                <a:solidFill>
                  <a:srgbClr val="000000"/>
                </a:solidFill>
                <a:latin typeface="Century Gothic"/>
              </a:rPr>
              <a:t>stampa</a:t>
            </a:r>
            <a:r>
              <a:rPr b="0" lang="it-IT" sz="1200" spc="-1" strike="noStrike">
                <a:solidFill>
                  <a:srgbClr val="000000"/>
                </a:solidFill>
                <a:latin typeface="Century Gothic"/>
              </a:rPr>
              <a:t> del gruppo di dati attiv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81280" y="1752480"/>
            <a:ext cx="2133720" cy="914400"/>
          </a:xfrm>
          <a:prstGeom prst="wedgeRectCallout">
            <a:avLst>
              <a:gd name="adj1" fmla="val -170013"/>
              <a:gd name="adj2" fmla="val -131944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581280" y="1752480"/>
            <a:ext cx="22100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entury Gothic"/>
              </a:rPr>
              <a:t>Al termine, cliccare su </a:t>
            </a:r>
            <a:r>
              <a:rPr b="1" lang="it-IT" sz="1200" spc="-1" strike="noStrike">
                <a:solidFill>
                  <a:srgbClr val="000000"/>
                </a:solidFill>
                <a:latin typeface="Century Gothic"/>
              </a:rPr>
              <a:t>File</a:t>
            </a:r>
            <a:r>
              <a:rPr b="0" lang="it-IT" sz="1200" spc="-1" strike="noStrike">
                <a:solidFill>
                  <a:srgbClr val="000000"/>
                </a:solidFill>
                <a:latin typeface="Century Gothic"/>
              </a:rPr>
              <a:t> e </a:t>
            </a:r>
            <a:r>
              <a:rPr b="1" lang="it-IT" sz="1200" spc="-1" strike="noStrike">
                <a:solidFill>
                  <a:srgbClr val="000000"/>
                </a:solidFill>
                <a:latin typeface="Century Gothic"/>
              </a:rPr>
              <a:t>Chiudi</a:t>
            </a:r>
            <a:r>
              <a:rPr b="0" lang="it-IT" sz="1200" spc="-1" strike="noStrike">
                <a:solidFill>
                  <a:srgbClr val="000000"/>
                </a:solidFill>
                <a:latin typeface="Century Gothic"/>
              </a:rPr>
              <a:t> per uscire dalla sessione attiva e tornare all’applicazi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2819520" y="5791320"/>
            <a:ext cx="2819160" cy="7617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2895480" y="5867280"/>
            <a:ext cx="27432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entury Gothic"/>
              </a:rPr>
              <a:t>Creazione del report di stampa su un file formato Acrobat (.pdf): è possibile salvare, stampare, et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3BB7E-F510-482A-9A0B-57478EBCDB06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3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entury Gothic"/>
              </a:rPr>
              <a:t>Azienda: inserimento nuova Azien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19320" y="5638680"/>
            <a:ext cx="1828800" cy="1067040"/>
          </a:xfrm>
          <a:prstGeom prst="wedgeRectCallout">
            <a:avLst>
              <a:gd name="adj1" fmla="val -3643"/>
              <a:gd name="adj2" fmla="val -133333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1295280" y="5715000"/>
            <a:ext cx="1828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Century Gothic"/>
              </a:rPr>
              <a:t>2</a:t>
            </a:r>
            <a:r>
              <a:rPr b="0" lang="it-IT" sz="1200" spc="-1" strike="noStrike">
                <a:solidFill>
                  <a:srgbClr val="000000"/>
                </a:solidFill>
                <a:latin typeface="Century Gothic"/>
              </a:rPr>
              <a:t> - Cliccare sul bottone SALVA per  </a:t>
            </a:r>
            <a:r>
              <a:rPr b="1" lang="it-IT" sz="1200" spc="-1" strike="noStrike">
                <a:solidFill>
                  <a:srgbClr val="000000"/>
                </a:solidFill>
                <a:latin typeface="Century Gothic"/>
              </a:rPr>
              <a:t>inserire</a:t>
            </a:r>
            <a:r>
              <a:rPr b="0" lang="it-IT" sz="1200" spc="-1" strike="noStrike">
                <a:solidFill>
                  <a:srgbClr val="000000"/>
                </a:solidFill>
                <a:latin typeface="Century Gothic"/>
              </a:rPr>
              <a:t> la Nuova Azienda in Anagraf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6629400" y="2209680"/>
            <a:ext cx="2209680" cy="990720"/>
          </a:xfrm>
          <a:prstGeom prst="wedgeRectCallout">
            <a:avLst>
              <a:gd name="adj1" fmla="val -88004"/>
              <a:gd name="adj2" fmla="val 22115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629400" y="2209680"/>
            <a:ext cx="2362320" cy="9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entury Gothic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 - Inserire almeno le informazioni obbligatori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N.B. Il Codice Fiscale è controllato “formalmente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3276720" y="609480"/>
            <a:ext cx="2819160" cy="1371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352680" y="685800"/>
            <a:ext cx="2743200" cy="12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Esempio di inserimento di una Nuova Azienda in Anagraf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N.B. Dopo l’inserimento dell’Azienda in Anagrafe il Codice Fiscale </a:t>
            </a:r>
            <a:r>
              <a:rPr b="1" lang="en-US" sz="1200" spc="-1" strike="noStrike">
                <a:solidFill>
                  <a:srgbClr val="000000"/>
                </a:solidFill>
                <a:latin typeface="Century Gothic"/>
              </a:rPr>
              <a:t>non</a:t>
            </a: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 sarà più modificabile e riutilizzab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648320" y="5715000"/>
            <a:ext cx="2514600" cy="609480"/>
          </a:xfrm>
          <a:prstGeom prst="wedgeRectCallout">
            <a:avLst>
              <a:gd name="adj1" fmla="val -32134"/>
              <a:gd name="adj2" fmla="val -126564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800600" y="5715000"/>
            <a:ext cx="25146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Century Gothic"/>
              </a:rPr>
              <a:t>3</a:t>
            </a:r>
            <a:r>
              <a:rPr b="0" lang="it-IT" sz="1200" spc="-1" strike="noStrike">
                <a:solidFill>
                  <a:srgbClr val="000000"/>
                </a:solidFill>
                <a:latin typeface="Century Gothic"/>
              </a:rPr>
              <a:t> - Cliccare su OK per confermare l’inserimento della Nuova Azienda in Anagraf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CD024-B947-443F-8BC1-0AF0396F464B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entury Gothic"/>
              </a:rPr>
              <a:t>Azienda: elimina nuova Azien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1219320" y="5638680"/>
            <a:ext cx="2057400" cy="914400"/>
          </a:xfrm>
          <a:prstGeom prst="wedgeRectCallout">
            <a:avLst>
              <a:gd name="adj1" fmla="val -13115"/>
              <a:gd name="adj2" fmla="val -131944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1295280" y="5715000"/>
            <a:ext cx="19814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Century Gothic"/>
              </a:rPr>
              <a:t>1</a:t>
            </a:r>
            <a:r>
              <a:rPr b="0" lang="it-IT" sz="1200" spc="-1" strike="noStrike">
                <a:solidFill>
                  <a:srgbClr val="000000"/>
                </a:solidFill>
                <a:latin typeface="Century Gothic"/>
              </a:rPr>
              <a:t> - Cliccare sul bottone ELIMINA per  </a:t>
            </a:r>
            <a:r>
              <a:rPr b="1" lang="it-IT" sz="1200" spc="-1" strike="noStrike">
                <a:solidFill>
                  <a:srgbClr val="000000"/>
                </a:solidFill>
                <a:latin typeface="Century Gothic"/>
              </a:rPr>
              <a:t>cancellare</a:t>
            </a:r>
            <a:r>
              <a:rPr b="0" lang="it-IT" sz="1200" spc="-1" strike="noStrike">
                <a:solidFill>
                  <a:srgbClr val="000000"/>
                </a:solidFill>
                <a:latin typeface="Century Gothic"/>
              </a:rPr>
              <a:t> la Azienda dall’Anagraf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505320" y="1066680"/>
            <a:ext cx="2819160" cy="13716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3581280" y="1143000"/>
            <a:ext cx="2743200" cy="12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entury Gothic"/>
              </a:rPr>
              <a:t>Esempio di eliminazione di una Nuova Azienda dall’ Anagraf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entury Gothic"/>
              </a:rPr>
              <a:t>N.B. Questa funzione è consentita solo al CAA Locale che ha inserito l’Azienda in Anagrafe ma </a:t>
            </a:r>
            <a:r>
              <a:rPr b="1" lang="it-IT" sz="1200" spc="-1" strike="noStrike">
                <a:solidFill>
                  <a:srgbClr val="000000"/>
                </a:solidFill>
                <a:latin typeface="Century Gothic"/>
              </a:rPr>
              <a:t>non</a:t>
            </a:r>
            <a:r>
              <a:rPr b="0" lang="it-IT" sz="1200" spc="-1" strike="noStrike">
                <a:solidFill>
                  <a:srgbClr val="000000"/>
                </a:solidFill>
                <a:latin typeface="Century Gothic"/>
              </a:rPr>
              <a:t> ha ancora effettuato la sua iscrizio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4648320" y="6019920"/>
            <a:ext cx="2514600" cy="609480"/>
          </a:xfrm>
          <a:prstGeom prst="wedgeRectCallout">
            <a:avLst>
              <a:gd name="adj1" fmla="val -27083"/>
              <a:gd name="adj2" fmla="val -145314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4724280" y="6019920"/>
            <a:ext cx="25146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Century Gothic"/>
              </a:rPr>
              <a:t>2</a:t>
            </a:r>
            <a:r>
              <a:rPr b="0" lang="it-IT" sz="1200" spc="-1" strike="noStrike">
                <a:solidFill>
                  <a:srgbClr val="000000"/>
                </a:solidFill>
                <a:latin typeface="Century Gothic"/>
              </a:rPr>
              <a:t> - Cliccare su OK per confermare l’inserimento della Nuova Azienda in Anagraf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1E9D2-8614-41E5-A992-020711D00741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entury Gothic"/>
              </a:rPr>
              <a:t>Azienda: Liste Ricerche (Possessi che generano supero) (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6781680" y="1828800"/>
            <a:ext cx="2133720" cy="685800"/>
          </a:xfrm>
          <a:prstGeom prst="wedgeRectCallout">
            <a:avLst>
              <a:gd name="adj1" fmla="val -41370"/>
              <a:gd name="adj2" fmla="val 130555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6858000" y="1905120"/>
            <a:ext cx="2133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Il CAA Centrale  può estendere le ricerche su tutti i CAA Local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5C213-46E5-4082-848A-87965276A7A1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entury Gothic"/>
              </a:rPr>
              <a:t>Azienda: Liste Ricerche (Possessi che generano supero) (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33520" y="5638680"/>
            <a:ext cx="2133360" cy="685800"/>
          </a:xfrm>
          <a:prstGeom prst="wedgeRectCallout">
            <a:avLst>
              <a:gd name="adj1" fmla="val -14435"/>
              <a:gd name="adj2" fmla="val -145138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33520" y="5638680"/>
            <a:ext cx="2209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Premere il bottone STAMPA per stampare il risultato della ricer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CD49A-1D4A-4F6E-9BCD-F2D56AF29214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3399"/>
                </a:solidFill>
                <a:latin typeface="Century Gothic"/>
              </a:rPr>
              <a:t>Azienda: Liste Ricerche (Aziende Validate) (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6477120" y="2286000"/>
            <a:ext cx="2133360" cy="685800"/>
          </a:xfrm>
          <a:prstGeom prst="wedgeRectCallout">
            <a:avLst>
              <a:gd name="adj1" fmla="val -30060"/>
              <a:gd name="adj2" fmla="val 123148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553080" y="2286000"/>
            <a:ext cx="2133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Il CAA Centrale  può estendere le ricerche su tutti i CAA Local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363F8-53FE-4907-96DE-0A6ADADBF64A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09480" y="304920"/>
            <a:ext cx="7925040" cy="54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300" spc="-1" strike="noStrike">
                <a:solidFill>
                  <a:srgbClr val="000000"/>
                </a:solidFill>
                <a:latin typeface="Verdana"/>
              </a:rPr>
              <a:t>Funzioni a disposizione del gestore dell’Anagrafe Regionale  (fax  051-284891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 u="sng">
                <a:solidFill>
                  <a:srgbClr val="000000"/>
                </a:solidFill>
                <a:uFillTx/>
                <a:latin typeface="Verdana"/>
              </a:rPr>
              <a:t>Servizio Aiuti Impre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1) Per la modifica della </a:t>
            </a:r>
            <a:r>
              <a:rPr b="1" lang="it-IT" sz="1200" spc="-1" strike="noStrike">
                <a:solidFill>
                  <a:srgbClr val="000000"/>
                </a:solidFill>
                <a:latin typeface="Verdana"/>
              </a:rPr>
              <a:t>Superficie Catastale</a:t>
            </a: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 della particella occorre inviare una richiesta scritta (fax o e-mail) di rettifica con gli estremi della particella da aggiornare al Servizio Aiuti Imprese (il controllo dei superi verrà eseguito automaticament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 u="sng">
                <a:solidFill>
                  <a:srgbClr val="000000"/>
                </a:solidFill>
                <a:uFillTx/>
                <a:latin typeface="Verdana"/>
              </a:rPr>
              <a:t>Servizio Informativo Agricolo Region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2) Per </a:t>
            </a:r>
            <a:r>
              <a:rPr b="1" lang="it-IT" sz="1200" spc="-1" strike="noStrike">
                <a:solidFill>
                  <a:srgbClr val="000000"/>
                </a:solidFill>
                <a:latin typeface="Verdana"/>
              </a:rPr>
              <a:t>cessare l’Azienda</a:t>
            </a: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, il CAA Locale deve cessare (inserire la data di fine validità) tutti gli oggetti ad essa collegati: Persone, Unità Locali, Possessi e la Iscrizio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La richiesta di cessazione del rapporto dell’Azienda con l’Anagrafe dovrà essere inoltrata al Servizio Informativo Agricolo Regionale: l’Azienda è archiviata e non sarà più accessibi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Contestualmente sarà possibile </a:t>
            </a:r>
            <a:r>
              <a:rPr b="1" lang="it-IT" sz="1200" spc="-1" strike="noStrike">
                <a:solidFill>
                  <a:srgbClr val="000000"/>
                </a:solidFill>
                <a:latin typeface="Verdana"/>
              </a:rPr>
              <a:t>riattivare l’Azienda</a:t>
            </a: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3) Per </a:t>
            </a:r>
            <a:r>
              <a:rPr b="1" lang="it-IT" sz="1200" spc="-1" strike="noStrike">
                <a:solidFill>
                  <a:srgbClr val="000000"/>
                </a:solidFill>
                <a:latin typeface="Verdana"/>
              </a:rPr>
              <a:t>eliminare l’Azienda</a:t>
            </a: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, il CAA Locale deve eliminare tutti gli oggetti ad essa collegati (Persone, Unità Locali, Possessi) e cessare la Iscrizio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La richiesta di eliminazione definitiva dell’Azienda dall’Anagrafe dovrà essere inoltrata al Servizio Informativo Agricolo Regionale. (attenzione: da richiedere solo per Aziende inserite per errore o duplicat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4) La</a:t>
            </a:r>
            <a:r>
              <a:rPr b="1" lang="it-IT" sz="1200" spc="-1" strike="noStrike">
                <a:solidFill>
                  <a:srgbClr val="000000"/>
                </a:solidFill>
                <a:latin typeface="Verdana"/>
              </a:rPr>
              <a:t> gestione degli Utenti </a:t>
            </a: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(inserimento/modifica/cancellazione)</a:t>
            </a:r>
            <a:r>
              <a:rPr b="1" lang="it-IT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e del ruolo attivo con il CAA Locale è svolta dal Servizio Informativo Agricolo Regionale; inviare una comunicazione con l’elenco dei soli utenti e del ruolo da aggiornare suddivisi per CAA Loca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64BCD-3BB7-4E0E-A81D-02C4E0C8FF4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3399"/>
                </a:solidFill>
                <a:latin typeface="Century Gothic"/>
              </a:rPr>
              <a:t>Azienda: Liste Ricerche (Aziende Validate) (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33520" y="5638680"/>
            <a:ext cx="2133360" cy="685800"/>
          </a:xfrm>
          <a:prstGeom prst="wedgeRectCallout">
            <a:avLst>
              <a:gd name="adj1" fmla="val -14435"/>
              <a:gd name="adj2" fmla="val -145138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33520" y="5638680"/>
            <a:ext cx="2209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Premere il bottone STAMPA per stampare il risultato della ricer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537FA-246E-4717-97FF-0EF9AB4CD44F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entury Gothic"/>
              </a:rPr>
              <a:t>Azienda: Liste Ricerche (Variazioni Dati Aziendali) (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105520" y="3352680"/>
            <a:ext cx="2590560" cy="1295640"/>
          </a:xfrm>
          <a:prstGeom prst="wedgeRectCallout">
            <a:avLst>
              <a:gd name="adj1" fmla="val -76777"/>
              <a:gd name="adj2" fmla="val 46199"/>
            </a:avLst>
          </a:prstGeom>
          <a:solidFill>
            <a:srgbClr val="fff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5181480" y="3352680"/>
            <a:ext cx="2667240" cy="12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entury Gothic"/>
              </a:rPr>
              <a:t>Ricerca gli oggetti (Persone /Unità Locali /Possessi) che sono stati </a:t>
            </a:r>
            <a:r>
              <a:rPr b="1" lang="it-IT" sz="1200" spc="-1" strike="noStrike">
                <a:solidFill>
                  <a:srgbClr val="000000"/>
                </a:solidFill>
                <a:latin typeface="Century Gothic"/>
              </a:rPr>
              <a:t>aggiornati </a:t>
            </a:r>
            <a:r>
              <a:rPr b="0" lang="it-IT" sz="1200" spc="-1" strike="noStrike">
                <a:solidFill>
                  <a:srgbClr val="000000"/>
                </a:solidFill>
                <a:latin typeface="Century Gothic"/>
              </a:rPr>
              <a:t>nell’Azienda selezionata  in un determinato intervallo di temp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entury Gothic"/>
              </a:rPr>
              <a:t>Solo per Utente </a:t>
            </a:r>
            <a:r>
              <a:rPr b="1" lang="it-IT" sz="1200" spc="-1" strike="noStrike">
                <a:solidFill>
                  <a:srgbClr val="000000"/>
                </a:solidFill>
                <a:latin typeface="Century Gothic"/>
              </a:rPr>
              <a:t>CAA Validat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2E087-33A1-46D4-9103-B3B86B6EF421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entury Gothic"/>
              </a:rPr>
              <a:t>Azienda: Liste Ricerche (Variazioni Dati Aziendali) (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6553080" y="3809880"/>
            <a:ext cx="2133720" cy="914400"/>
          </a:xfrm>
          <a:prstGeom prst="wedgeRectCallout">
            <a:avLst>
              <a:gd name="adj1" fmla="val -110861"/>
              <a:gd name="adj2" fmla="val -1736"/>
            </a:avLst>
          </a:prstGeom>
          <a:solidFill>
            <a:srgbClr val="e5f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629400" y="3886200"/>
            <a:ext cx="2133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Nelle Unità locali non vi sono state variazioni oppure non esistono in Anagraf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4952880" y="1523880"/>
            <a:ext cx="2286000" cy="838440"/>
          </a:xfrm>
          <a:prstGeom prst="wedgeRectCallout">
            <a:avLst>
              <a:gd name="adj1" fmla="val -13194"/>
              <a:gd name="adj2" fmla="val 50189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52880" y="1523880"/>
            <a:ext cx="2590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Elenco delle Persone /Unità Locali / Possessi dell’Azienda </a:t>
            </a:r>
            <a:r>
              <a:rPr b="1" lang="en-US" sz="1200" spc="-1" strike="noStrike">
                <a:solidFill>
                  <a:srgbClr val="000000"/>
                </a:solidFill>
                <a:latin typeface="Century Gothic"/>
              </a:rPr>
              <a:t>aggiornate</a:t>
            </a: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 successivamente alla data di ricer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D0470-DC3C-4C9B-9569-48DC1DDB497C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7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entury Gothic"/>
              </a:rPr>
              <a:t>Azienda: Trasferimento Possessi (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91320" y="1295280"/>
            <a:ext cx="2133360" cy="1905120"/>
          </a:xfrm>
          <a:prstGeom prst="wedgeRectCallout">
            <a:avLst>
              <a:gd name="adj1" fmla="val -71726"/>
              <a:gd name="adj2" fmla="val 32999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791320" y="1295280"/>
            <a:ext cx="2133360" cy="19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entury Gothic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- Inserire i CUAA delle aziende di origine e destinazione dei possessi e la </a:t>
            </a:r>
            <a:r>
              <a:rPr b="1" lang="en-US" sz="1200" spc="-1" strike="noStrike">
                <a:solidFill>
                  <a:srgbClr val="000000"/>
                </a:solidFill>
                <a:latin typeface="Century Gothic"/>
              </a:rPr>
              <a:t>Data di Trasferimento</a:t>
            </a: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: corrisponde alla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Century Gothic"/>
              </a:rPr>
              <a:t>Data di fine</a:t>
            </a: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 per tutti i possessi da trasferire in origine e alla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Century Gothic"/>
              </a:rPr>
              <a:t>Data di inizio</a:t>
            </a: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 per i possessi trasferiti alla azienda di destinazio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581280" y="5410080"/>
            <a:ext cx="2971800" cy="1143000"/>
          </a:xfrm>
          <a:prstGeom prst="wedgeRectCallout">
            <a:avLst>
              <a:gd name="adj1" fmla="val -30611"/>
              <a:gd name="adj2" fmla="val -100833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3657600" y="5486400"/>
            <a:ext cx="28195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Century Gothic"/>
              </a:rPr>
              <a:t>3</a:t>
            </a:r>
            <a:r>
              <a:rPr b="0" lang="it-IT" sz="1200" spc="-1" strike="noStrike">
                <a:solidFill>
                  <a:srgbClr val="000000"/>
                </a:solidFill>
                <a:latin typeface="Century Gothic"/>
              </a:rPr>
              <a:t> - Cliccare su OK per confermare il trasferimento. (attenzione: tutti i possessi validi alla Data Trasferimento saranno chiusi e copiati nella nuova aziend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7010280" y="4267080"/>
            <a:ext cx="1828800" cy="609840"/>
          </a:xfrm>
          <a:prstGeom prst="wedgeRectCallout">
            <a:avLst>
              <a:gd name="adj1" fmla="val -35157"/>
              <a:gd name="adj2" fmla="val -145314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7010280" y="4267080"/>
            <a:ext cx="19051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Century Gothic"/>
              </a:rPr>
              <a:t>2</a:t>
            </a:r>
            <a:r>
              <a:rPr b="0" lang="it-IT" sz="1200" spc="-1" strike="noStrike">
                <a:solidFill>
                  <a:srgbClr val="000000"/>
                </a:solidFill>
                <a:latin typeface="Century Gothic"/>
              </a:rPr>
              <a:t> - Cliccare su ESEGUI per procedere con il trasferime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1752480" y="1523880"/>
            <a:ext cx="1828800" cy="609840"/>
          </a:xfrm>
          <a:prstGeom prst="wedgeRectCallout">
            <a:avLst>
              <a:gd name="adj1" fmla="val 57898"/>
              <a:gd name="adj2" fmla="val 129689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1752480" y="1523880"/>
            <a:ext cx="19051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N.B. Le aziende devono essere iscritte allo stesso CAA Loc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C7533-A3B7-4082-812A-77977A64C594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entury Gothic"/>
              </a:rPr>
              <a:t>Azienda: Trasferimento Possessi  (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867280" y="1676520"/>
            <a:ext cx="2133720" cy="1066680"/>
          </a:xfrm>
          <a:prstGeom prst="wedgeRectCallout">
            <a:avLst>
              <a:gd name="adj1" fmla="val -83629"/>
              <a:gd name="adj2" fmla="val 35416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943600" y="1676520"/>
            <a:ext cx="19051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Messaggio di operazione eseguita correttamente con indicato il numero di possessi trasferiti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66116-C537-4766-A6C2-6B8C27E666EA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1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entury Gothic"/>
              </a:rPr>
              <a:t>Iscrizione al CAA: Nuova Iscrizio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352680" y="3581280"/>
            <a:ext cx="2895840" cy="609840"/>
          </a:xfrm>
          <a:prstGeom prst="wedgeRectCallout">
            <a:avLst>
              <a:gd name="adj1" fmla="val -17981"/>
              <a:gd name="adj2" fmla="val -129949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657600"/>
            <a:ext cx="2895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Inserire il CUAA dell’Azienda “libera” (non iscritta a nessun CAA Loca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410080" y="838080"/>
            <a:ext cx="2819520" cy="2133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486400" y="914400"/>
            <a:ext cx="2514600" cy="20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Questa funzione consente al CAA Locale di </a:t>
            </a:r>
            <a:r>
              <a:rPr b="1" lang="en-US" sz="1200" spc="-1" strike="noStrike">
                <a:solidFill>
                  <a:srgbClr val="000000"/>
                </a:solidFill>
                <a:latin typeface="Century Gothic"/>
              </a:rPr>
              <a:t>iscrivere</a:t>
            </a: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 una Azienda presente in Anagrafe quand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non è mai  stata iscritta a nessun CAA Local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non è attualmente iscritta (ha cessato il rapport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è stata trasferita da un altro CAA loc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914400" y="4648320"/>
            <a:ext cx="2666880" cy="914400"/>
          </a:xfrm>
          <a:prstGeom prst="wedgeRectCallout">
            <a:avLst>
              <a:gd name="adj1" fmla="val -26486"/>
              <a:gd name="adj2" fmla="val -160592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990720" y="464832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entury Gothic"/>
              </a:rPr>
              <a:t>Cliccare qui per </a:t>
            </a:r>
            <a:r>
              <a:rPr b="1" lang="it-IT" sz="1200" spc="-1" strike="noStrike">
                <a:solidFill>
                  <a:srgbClr val="000000"/>
                </a:solidFill>
                <a:latin typeface="Century Gothic"/>
              </a:rPr>
              <a:t>iscrivere</a:t>
            </a:r>
            <a:r>
              <a:rPr b="0" lang="it-IT" sz="1200" spc="-1" strike="noStrike">
                <a:solidFill>
                  <a:srgbClr val="000000"/>
                </a:solidFill>
                <a:latin typeface="Century Gothic"/>
              </a:rPr>
              <a:t> una Azienda presente in Anagrafe al CAA Locale (n.b. solo per utenti Gestori e Validator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4857C-1AD4-4FE3-BBB9-C2EBF3A4C93B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9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entury Gothic"/>
              </a:rPr>
              <a:t>Iscrizione al CAA: Nuova iscrizione al CA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5715000" y="5029200"/>
            <a:ext cx="2362320" cy="838080"/>
          </a:xfrm>
          <a:prstGeom prst="wedgeRectCallout">
            <a:avLst>
              <a:gd name="adj1" fmla="val -71574"/>
              <a:gd name="adj2" fmla="val -9467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5715000" y="5029200"/>
            <a:ext cx="2438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entury Gothic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 - Inserire la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Century Gothic"/>
              </a:rPr>
              <a:t>Data Richiesta</a:t>
            </a: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 e la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Century Gothic"/>
              </a:rPr>
              <a:t>Data Inizio</a:t>
            </a: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 con le quali si attiva il rapporto  dell’Azienda con il CAA Locale indica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5791320" y="1600200"/>
            <a:ext cx="2133360" cy="762120"/>
          </a:xfrm>
          <a:prstGeom prst="wedgeRectCallout">
            <a:avLst>
              <a:gd name="adj1" fmla="val -73513"/>
              <a:gd name="adj2" fmla="val 37916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943600" y="1676520"/>
            <a:ext cx="19051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Messaggio di valida  iscrizione dell’Azienda al CAA Loc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5867280" y="3657600"/>
            <a:ext cx="2133720" cy="457200"/>
          </a:xfrm>
          <a:prstGeom prst="wedgeRectCallout">
            <a:avLst>
              <a:gd name="adj1" fmla="val -91962"/>
              <a:gd name="adj2" fmla="val 54861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5867280" y="3733920"/>
            <a:ext cx="190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Dati del CAA Loc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3FDB5-3BA0-41D8-B67C-A268D1E8671E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7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entury Gothic"/>
              </a:rPr>
              <a:t>Iscrizione al CAA: Lista Iscrizioni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3581280" y="3809880"/>
            <a:ext cx="2895840" cy="762120"/>
          </a:xfrm>
          <a:prstGeom prst="wedgeRectCallout">
            <a:avLst>
              <a:gd name="adj1" fmla="val -18861"/>
              <a:gd name="adj2" fmla="val -147291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3657600" y="3886200"/>
            <a:ext cx="2895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Inserire il CUAA dell’Azienda“in carico” al proprio CAA Locale da cessare o trasferi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5486400" y="838080"/>
            <a:ext cx="2819520" cy="12956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5562720" y="914400"/>
            <a:ext cx="25146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Questa funzione consente al CAA Locale di </a:t>
            </a:r>
            <a:r>
              <a:rPr b="1" lang="en-US" sz="1200" spc="-1" strike="noStrike">
                <a:solidFill>
                  <a:srgbClr val="000000"/>
                </a:solidFill>
                <a:latin typeface="Century Gothic"/>
              </a:rPr>
              <a:t>cessare</a:t>
            </a: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 o </a:t>
            </a:r>
            <a:r>
              <a:rPr b="1" lang="en-US" sz="1200" spc="-1" strike="noStrike">
                <a:solidFill>
                  <a:srgbClr val="000000"/>
                </a:solidFill>
                <a:latin typeface="Century Gothic"/>
              </a:rPr>
              <a:t>trasferire</a:t>
            </a: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 un’Azienda ad un altro CAA Locale della stessa organizzazione o di alt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C994F-11A5-427B-B2EE-19F7E60A2DD9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entury Gothic"/>
              </a:rPr>
              <a:t>Iscrizione al CAA: Trasferire ad altro CA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2362320" y="5791320"/>
            <a:ext cx="2819160" cy="609480"/>
          </a:xfrm>
          <a:prstGeom prst="wedgeRectCallout">
            <a:avLst>
              <a:gd name="adj1" fmla="val -30856"/>
              <a:gd name="adj2" fmla="val -165884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2514600" y="5867280"/>
            <a:ext cx="2590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entury Gothic"/>
              </a:rPr>
              <a:t>Cliccare qui  per </a:t>
            </a:r>
            <a:r>
              <a:rPr b="1" lang="it-IT" sz="1200" spc="-1" strike="noStrike">
                <a:solidFill>
                  <a:srgbClr val="000000"/>
                </a:solidFill>
                <a:latin typeface="Century Gothic"/>
              </a:rPr>
              <a:t>entrare </a:t>
            </a:r>
            <a:r>
              <a:rPr b="0" lang="it-IT" sz="1200" spc="-1" strike="noStrike">
                <a:solidFill>
                  <a:srgbClr val="000000"/>
                </a:solidFill>
                <a:latin typeface="Century Gothic"/>
              </a:rPr>
              <a:t>sui  dati della Iscrizione della Azien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FB20A-A070-4F68-B2D6-99D70C583CF2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7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entury Gothic"/>
              </a:rPr>
              <a:t>Iscrizione al CAA: Trasferire ad altro CA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228600" y="5486400"/>
            <a:ext cx="2286000" cy="1219320"/>
          </a:xfrm>
          <a:prstGeom prst="wedgeRectCallout">
            <a:avLst>
              <a:gd name="adj1" fmla="val 113819"/>
              <a:gd name="adj2" fmla="val -4974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228600" y="5486400"/>
            <a:ext cx="228600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Century Gothic"/>
              </a:rPr>
              <a:t>3 </a:t>
            </a:r>
            <a:r>
              <a:rPr b="0" lang="it-IT" sz="1200" spc="-1" strike="noStrike">
                <a:solidFill>
                  <a:srgbClr val="000000"/>
                </a:solidFill>
                <a:latin typeface="Century Gothic"/>
              </a:rPr>
              <a:t>- Cliccare qui per selezionare il </a:t>
            </a:r>
            <a:r>
              <a:rPr b="1" lang="it-IT" sz="1200" spc="-1" strike="noStrike">
                <a:solidFill>
                  <a:srgbClr val="000000"/>
                </a:solidFill>
                <a:latin typeface="Century Gothic"/>
              </a:rPr>
              <a:t>nuovo CAA Locale</a:t>
            </a:r>
            <a:r>
              <a:rPr b="0" lang="it-IT" sz="1200" spc="-1" strike="noStrike">
                <a:solidFill>
                  <a:srgbClr val="000000"/>
                </a:solidFill>
                <a:latin typeface="Century Gothic"/>
              </a:rPr>
              <a:t> che prenderà “in carico”  la gestione dell’Azienda (è obbligatoria solo per il trasferimento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6095880" y="3886200"/>
            <a:ext cx="2514600" cy="838080"/>
          </a:xfrm>
          <a:prstGeom prst="wedgeRectCallout">
            <a:avLst>
              <a:gd name="adj1" fmla="val -77083"/>
              <a:gd name="adj2" fmla="val 5115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6095880" y="3886200"/>
            <a:ext cx="2590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entury Gothic"/>
              </a:rPr>
              <a:t>1 </a:t>
            </a: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- Inserire la </a:t>
            </a:r>
            <a:r>
              <a:rPr b="1" lang="en-US" sz="1200" spc="-1" strike="noStrike">
                <a:solidFill>
                  <a:srgbClr val="000000"/>
                </a:solidFill>
                <a:latin typeface="Century Gothic"/>
              </a:rPr>
              <a:t>Data Cessazione</a:t>
            </a: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 per indicare la data di fine rapporto dell’Azienda con il CAA Loc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410080" y="2362320"/>
            <a:ext cx="2514600" cy="380880"/>
          </a:xfrm>
          <a:prstGeom prst="wedgeRectCallout">
            <a:avLst>
              <a:gd name="adj1" fmla="val -79606"/>
              <a:gd name="adj2" fmla="val 38749"/>
            </a:avLst>
          </a:prstGeom>
          <a:solidFill>
            <a:srgbClr val="e5f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5410080" y="2438280"/>
            <a:ext cx="2590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Informazioni del CAA Loc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6095880" y="4952880"/>
            <a:ext cx="2514600" cy="838440"/>
          </a:xfrm>
          <a:prstGeom prst="wedgeRectCallout">
            <a:avLst>
              <a:gd name="adj1" fmla="val -87120"/>
              <a:gd name="adj2" fmla="val -25189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6095880" y="4952880"/>
            <a:ext cx="2590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entury Gothic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 - Inserire la </a:t>
            </a:r>
            <a:r>
              <a:rPr b="1" lang="en-US" sz="1200" spc="-1" strike="noStrike">
                <a:solidFill>
                  <a:srgbClr val="000000"/>
                </a:solidFill>
                <a:latin typeface="Century Gothic"/>
              </a:rPr>
              <a:t>Data Invio Fascicolo</a:t>
            </a: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 al nuovo CAA Locale (è obbligatoria solo per il trasferiment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28600" y="4267080"/>
            <a:ext cx="2286000" cy="685800"/>
          </a:xfrm>
          <a:prstGeom prst="wedgeRectCallout">
            <a:avLst>
              <a:gd name="adj1" fmla="val 30555"/>
              <a:gd name="adj2" fmla="val -170833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228600" y="4267080"/>
            <a:ext cx="2362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entury Gothic"/>
              </a:rPr>
              <a:t>4</a:t>
            </a: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- Premere il bottone SALVA per aggiornare le informazioni in Anagraf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5334120" y="914400"/>
            <a:ext cx="2514600" cy="380880"/>
          </a:xfrm>
          <a:prstGeom prst="wedgeRectCallout">
            <a:avLst>
              <a:gd name="adj1" fmla="val -81125"/>
              <a:gd name="adj2" fmla="val 62083"/>
            </a:avLst>
          </a:prstGeom>
          <a:solidFill>
            <a:srgbClr val="e5f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5410080" y="990720"/>
            <a:ext cx="2590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Informazioni della Azien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13108-2EBD-475C-B2BD-77F6CB5C6D11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609480" y="187200"/>
            <a:ext cx="8077320" cy="62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Verdana"/>
              </a:rPr>
              <a:t>Caricamento Anagrafe Aziende Agrico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L’anagrafe regionale non parte vuota: tutti gli archivi indicati (Uma, PAC2003, Domande 2f, Domande 2e)  sono stati  utilizzati per inizializzare l’anagrafe e impiegati con questa sequenza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Inseriti i dati aziendali (Azienda + Persone + Unità Locali) provenienti dalla anagrafe Uma validi alla data 27/09/2003.  (totale 95.118 aziende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Con i dati della PAC2003 sono stati aggiornati i dati aziendali (Azienda+Persone) e inseriti tutti i  Possessi che insistono sia su Particelle provenienti da AGEA (catasto + controllo con foto + controllo oggettivo) che di nuova creazione. (totale 43.696 aziende e 778.915 possessi). Inoltre dalla PAC2003 è stato possibile iscrivere queste aziende al CAA Locale indicat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I dati delle Domande 2f e Domande 2e sono stati incrociate con aziende in anagrafe che non hanno presentato la PAC2003 e di queste sono stati  inseriti i dati dei Possessi (74.203 possessi)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La aziende, con una sola persona, sono state pre-caricate come referent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Ai possessi sono stati pre-inserite le Macro Aree A, B, C, D (solo le zone vulnerabili) e le Fasce Altimetriche (Pianura, Collina, Montagna) dei i comuni e/o fogli interamente inseriti nelle delimitazioni riconosciute; per i comuni con dati parziali o non disponibili, le precedenti informazioni non sono state valorizza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Nella pagina successiva sono riportate le </a:t>
            </a:r>
            <a:r>
              <a:rPr b="1" lang="it-IT" sz="1200" spc="-1" strike="noStrike">
                <a:solidFill>
                  <a:srgbClr val="000000"/>
                </a:solidFill>
                <a:latin typeface="Verdana"/>
              </a:rPr>
              <a:t>statistiche</a:t>
            </a: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 del numero Aziende, Particelle, Possessi pre-inserite in archivio; in particolare sono indicate il numero delle Aree (A,B,C,D) e Fasce Altimetriche di cui è stato possibile ricavare un aggiornamento con le particelle e i possess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029BA-B84A-43DC-9BAA-F203B9768E3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1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entury Gothic"/>
              </a:rPr>
              <a:t>Terreni: Ricerca Terre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5181480" y="2209680"/>
            <a:ext cx="2514600" cy="838440"/>
          </a:xfrm>
          <a:prstGeom prst="wedgeRectCallout">
            <a:avLst>
              <a:gd name="adj1" fmla="val -41037"/>
              <a:gd name="adj2" fmla="val 101893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5181480" y="2209680"/>
            <a:ext cx="2590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Per Ricercare le informazioni della Particella Catastale è obbligatorio inserire la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Century Gothic"/>
              </a:rPr>
              <a:t>Provincia</a:t>
            </a: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, il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Century Gothic"/>
              </a:rPr>
              <a:t>Comune</a:t>
            </a: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 e il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Century Gothic"/>
              </a:rPr>
              <a:t>Fog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D56EB-6908-4902-91D7-67E6C9851A8A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5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entury Gothic"/>
              </a:rPr>
              <a:t>Terreni: Lista Terren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304920" y="5715000"/>
            <a:ext cx="2286000" cy="838080"/>
          </a:xfrm>
          <a:prstGeom prst="wedgeRectCallout">
            <a:avLst>
              <a:gd name="adj1" fmla="val 59861"/>
              <a:gd name="adj2" fmla="val -129356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304920" y="5791320"/>
            <a:ext cx="2286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entury Gothic"/>
              </a:rPr>
              <a:t>Cliccare qui  per ottenere le informazioni complete della Particella selezion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8E117-4E9C-466D-AD62-080C0CE0B7CD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9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entury Gothic"/>
              </a:rPr>
              <a:t>Terreni: Particell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733920" y="5715000"/>
            <a:ext cx="2057400" cy="838080"/>
          </a:xfrm>
          <a:prstGeom prst="wedgeRectCallout">
            <a:avLst>
              <a:gd name="adj1" fmla="val 20370"/>
              <a:gd name="adj2" fmla="val -78032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3809880" y="5715000"/>
            <a:ext cx="2057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entury Gothic"/>
              </a:rPr>
              <a:t>Cliccare qui  per</a:t>
            </a:r>
            <a:r>
              <a:rPr b="1" lang="it-IT" sz="12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it-IT" sz="1200" spc="-1" strike="noStrike">
                <a:solidFill>
                  <a:srgbClr val="000000"/>
                </a:solidFill>
                <a:latin typeface="Century Gothic"/>
              </a:rPr>
              <a:t>vedere tutte le Aziende collegate nel </a:t>
            </a:r>
            <a:r>
              <a:rPr b="1" lang="it-IT" sz="1200" spc="-1" strike="noStrike">
                <a:solidFill>
                  <a:srgbClr val="000000"/>
                </a:solidFill>
                <a:latin typeface="Century Gothic"/>
              </a:rPr>
              <a:t>possesso</a:t>
            </a:r>
            <a:r>
              <a:rPr b="0" lang="it-IT" sz="1200" spc="-1" strike="noStrike">
                <a:solidFill>
                  <a:srgbClr val="000000"/>
                </a:solidFill>
                <a:latin typeface="Century Gothic"/>
              </a:rPr>
              <a:t> della Particel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5943600" y="5715000"/>
            <a:ext cx="2666880" cy="838080"/>
          </a:xfrm>
          <a:prstGeom prst="wedgeRectCallout">
            <a:avLst>
              <a:gd name="adj1" fmla="val -22796"/>
              <a:gd name="adj2" fmla="val -7462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6019920" y="5715000"/>
            <a:ext cx="2514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entury Gothic"/>
              </a:rPr>
              <a:t>Cliccare qui  per </a:t>
            </a:r>
            <a:r>
              <a:rPr b="1" lang="it-IT" sz="1200" spc="-1" strike="noStrike">
                <a:solidFill>
                  <a:srgbClr val="000000"/>
                </a:solidFill>
                <a:latin typeface="Century Gothic"/>
              </a:rPr>
              <a:t>ottenere</a:t>
            </a:r>
            <a:r>
              <a:rPr b="0" lang="it-IT" sz="1200" spc="-1" strike="noStrike">
                <a:solidFill>
                  <a:srgbClr val="000000"/>
                </a:solidFill>
                <a:latin typeface="Century Gothic"/>
              </a:rPr>
              <a:t> gli Eventi che hanno determinato la nascita o la modifica della Particell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5791320" y="1828800"/>
            <a:ext cx="1600200" cy="6094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5867280" y="1905120"/>
            <a:ext cx="152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DATI CATASTALI della Particella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1447920" y="5715000"/>
            <a:ext cx="2057400" cy="685800"/>
          </a:xfrm>
          <a:prstGeom prst="wedgeRectCallout">
            <a:avLst>
              <a:gd name="adj1" fmla="val 61111"/>
              <a:gd name="adj2" fmla="val -84259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1447920" y="5715000"/>
            <a:ext cx="2057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entury Gothic"/>
              </a:rPr>
              <a:t>Cliccare qui  per</a:t>
            </a:r>
            <a:r>
              <a:rPr b="1" lang="it-IT" sz="12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it-IT" sz="1200" spc="-1" strike="noStrike">
                <a:solidFill>
                  <a:srgbClr val="000000"/>
                </a:solidFill>
                <a:latin typeface="Century Gothic"/>
              </a:rPr>
              <a:t>vedere tutte le Aree Preferenziali collegate alla Particel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85F1D-1791-4973-866D-9A4AC1AFBFED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9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entury Gothic"/>
              </a:rPr>
              <a:t>Terreni: Aree Preferenziali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5943600" y="3352680"/>
            <a:ext cx="2514600" cy="10670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6019920" y="3429000"/>
            <a:ext cx="236196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entury Gothic"/>
              </a:rPr>
              <a:t>Elenco delle Macro Aree definite sulla Particella Catastale (pre-caricate da informazioni reperite su documenti ufficial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99FB0-6200-4C18-B715-EA23CDF90F65}" type="slidenum">
              <a:t>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3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entury Gothic"/>
              </a:rPr>
              <a:t>Terreni: Lista Aziende Collegat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3276720" y="4724280"/>
            <a:ext cx="2819160" cy="12956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3429000" y="4876920"/>
            <a:ext cx="2743200" cy="110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Elenco delle Aziende che hanno dichiarato un Possesso sulla Particella Catasta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E’ indicato il CAA Locale a cui l’Azienda è iscritt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56299-29DB-415A-9595-2C51A35C5EC5}" type="slidenum">
              <a:t>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7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entury Gothic"/>
              </a:rPr>
              <a:t>Terreni: Liste Eventi (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5334120" y="5853240"/>
            <a:ext cx="2590560" cy="852480"/>
          </a:xfrm>
          <a:prstGeom prst="wedgeRectCallout">
            <a:avLst>
              <a:gd name="adj1" fmla="val -30759"/>
              <a:gd name="adj2" fmla="val -72717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410080" y="5853240"/>
            <a:ext cx="2362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Dati catastali della </a:t>
            </a:r>
            <a:r>
              <a:rPr b="1" lang="en-US" sz="1200" spc="-1" strike="noStrike">
                <a:solidFill>
                  <a:srgbClr val="000000"/>
                </a:solidFill>
                <a:latin typeface="Century Gothic"/>
              </a:rPr>
              <a:t>nuova Particella</a:t>
            </a: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 ottenuta  dal frazionamen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4648320" y="1447920"/>
            <a:ext cx="2590560" cy="10666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4648320" y="1523880"/>
            <a:ext cx="2743200" cy="9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Dati Catastali della </a:t>
            </a:r>
            <a:r>
              <a:rPr b="1" lang="en-US" sz="1200" spc="-1" strike="noStrike">
                <a:solidFill>
                  <a:srgbClr val="000000"/>
                </a:solidFill>
                <a:latin typeface="Century Gothic"/>
              </a:rPr>
              <a:t>Particella iniziale.</a:t>
            </a: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Un evento di frazionamento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Century Gothic"/>
              </a:rPr>
              <a:t>ha modificato</a:t>
            </a: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 la Particella inizi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12D70-D40C-4519-B8C9-8BC99BB9C5B1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entury Gothic"/>
              </a:rPr>
              <a:t>Terreni: Liste Eventi (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4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515" name=""/>
          <p:cNvSpPr/>
          <p:nvPr/>
        </p:nvSpPr>
        <p:spPr>
          <a:xfrm>
            <a:off x="4648320" y="1447920"/>
            <a:ext cx="2590560" cy="10666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4800600" y="1447920"/>
            <a:ext cx="2438280" cy="9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Dati Catastali della </a:t>
            </a:r>
            <a:r>
              <a:rPr b="1" lang="en-US" sz="1200" spc="-1" strike="noStrike">
                <a:solidFill>
                  <a:srgbClr val="000000"/>
                </a:solidFill>
                <a:latin typeface="Century Gothic"/>
              </a:rPr>
              <a:t>nuova</a:t>
            </a: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entury Gothic"/>
              </a:rPr>
              <a:t>Particel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Un evento di frazionamento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Century Gothic"/>
              </a:rPr>
              <a:t>ha creato</a:t>
            </a: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 la nuova Particel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5181480" y="4724280"/>
            <a:ext cx="2590920" cy="609840"/>
          </a:xfrm>
          <a:prstGeom prst="wedgeRectCallout">
            <a:avLst>
              <a:gd name="adj1" fmla="val -26287"/>
              <a:gd name="adj2" fmla="val -122134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5257800" y="4800600"/>
            <a:ext cx="2514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Dati catastali della </a:t>
            </a:r>
            <a:r>
              <a:rPr b="1" lang="en-US" sz="1200" spc="-1" strike="noStrike">
                <a:solidFill>
                  <a:srgbClr val="000000"/>
                </a:solidFill>
                <a:latin typeface="Century Gothic"/>
              </a:rPr>
              <a:t>Particella</a:t>
            </a: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entury Gothic"/>
              </a:rPr>
              <a:t>iniziale</a:t>
            </a: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 che è stata frazion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1BD07-EBBF-4DBF-BD90-5DF3FA85B1C7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9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entury Gothic"/>
              </a:rPr>
              <a:t>Utilità: Ricerca Ute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3124080" y="4724280"/>
            <a:ext cx="2514600" cy="838440"/>
          </a:xfrm>
          <a:prstGeom prst="wedgeRectCallout">
            <a:avLst>
              <a:gd name="adj1" fmla="val -22662"/>
              <a:gd name="adj2" fmla="val -95074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3200400" y="4800600"/>
            <a:ext cx="2362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Century Gothic"/>
              </a:rPr>
              <a:t>Ricerca x Lista Utenti</a:t>
            </a: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:             è obbligatorio inserire almeno un criterio di ricerc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5105520" y="1981080"/>
            <a:ext cx="2590560" cy="7621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5257800" y="2057400"/>
            <a:ext cx="24382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N.B. La Ricerca Utenti è un servizio disponibile solo per Utente </a:t>
            </a:r>
            <a:r>
              <a:rPr b="1" lang="en-US" sz="1200" spc="-1" strike="noStrike">
                <a:solidFill>
                  <a:srgbClr val="000000"/>
                </a:solidFill>
                <a:latin typeface="Century Gothic"/>
              </a:rPr>
              <a:t>CAA Centr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8E59A-AC59-48AC-90B4-3C0E43ED7B0B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5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entury Gothic"/>
              </a:rPr>
              <a:t>Utilità: Lista Ute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3124080" y="4343400"/>
            <a:ext cx="2286000" cy="533520"/>
          </a:xfrm>
          <a:prstGeom prst="wedgeRectCallout">
            <a:avLst>
              <a:gd name="adj1" fmla="val -58611"/>
              <a:gd name="adj2" fmla="val -13125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3124080" y="4419720"/>
            <a:ext cx="2286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entury Gothic"/>
              </a:rPr>
              <a:t>Cliccare qui  per ottenere il dettaglio dell’Utente CA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F401C-0357-4ECE-B8F6-EE356FF8A8D2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9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entury Gothic"/>
              </a:rPr>
              <a:t>Utilità: Utent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6324480" y="2209680"/>
            <a:ext cx="1905120" cy="685800"/>
          </a:xfrm>
          <a:prstGeom prst="wedgeRectCallout">
            <a:avLst>
              <a:gd name="adj1" fmla="val -96666"/>
              <a:gd name="adj2" fmla="val 55787"/>
            </a:avLst>
          </a:prstGeom>
          <a:solidFill>
            <a:srgbClr val="e5f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6324480" y="228600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Informazioni dettagliate dei Dati Utente CA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38C77-9EAE-4A24-BD33-5E68CCDC1CCE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609480" y="149400"/>
          <a:ext cx="7925040" cy="6076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49400"/>
                    <a:ext cx="7925040" cy="607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F5102-A516-412F-887C-EAA9578244E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entury Gothic"/>
              </a:rPr>
              <a:t>Utilità: Cambio Password (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6858000" y="3581280"/>
            <a:ext cx="1905120" cy="1600200"/>
          </a:xfrm>
          <a:prstGeom prst="wedgeRectCallout">
            <a:avLst>
              <a:gd name="adj1" fmla="val -126000"/>
              <a:gd name="adj2" fmla="val 17263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6934320" y="3733920"/>
            <a:ext cx="190476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I caratteri delle Password sono tutti nascost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N.B. Si consiglia di cambiare spesso la password per evitare usi impropr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4CC32-BB9D-4945-A7B8-079C2012FBB6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7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entury Gothic"/>
              </a:rPr>
              <a:t>Utilità: Cambio Password (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095880" y="2286000"/>
            <a:ext cx="2590920" cy="609480"/>
          </a:xfrm>
          <a:prstGeom prst="wedgeRectCallout">
            <a:avLst>
              <a:gd name="adj1" fmla="val -79226"/>
              <a:gd name="adj2" fmla="val 26824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6172200" y="2362320"/>
            <a:ext cx="2514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Messaggio di aggiornamento corretto dell’archiv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0032A-8B80-4ECD-9CA8-AAED0F13CA19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1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entury Gothic"/>
              </a:rPr>
              <a:t>Utilità: Ricerca CAA Local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4419720" y="4267080"/>
            <a:ext cx="2819160" cy="1067040"/>
          </a:xfrm>
          <a:prstGeom prst="wedgeRectCallout">
            <a:avLst>
              <a:gd name="adj1" fmla="val 47972"/>
              <a:gd name="adj2" fmla="val -95685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4495680" y="4343400"/>
            <a:ext cx="26672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 u="sng">
                <a:solidFill>
                  <a:srgbClr val="000000"/>
                </a:solidFill>
                <a:uFillTx/>
                <a:latin typeface="Century Gothic"/>
              </a:rPr>
              <a:t>Ricerca CAA</a:t>
            </a:r>
            <a:r>
              <a:rPr b="0" lang="it-IT" sz="1200" spc="-1" strike="noStrike">
                <a:solidFill>
                  <a:srgbClr val="000000"/>
                </a:solidFill>
                <a:latin typeface="Century Gothic"/>
              </a:rPr>
              <a:t>:                                 è facoltativo inserire il criterio per Provincia o Denominazione: nel qual caso si ricercheranno tutti i CAA Local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5105520" y="1981080"/>
            <a:ext cx="2590560" cy="7621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257800" y="2057400"/>
            <a:ext cx="24382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N.B. La Ricerca CAA è un servizio disponibile solo per Utente </a:t>
            </a:r>
            <a:r>
              <a:rPr b="1" lang="en-US" sz="1200" spc="-1" strike="noStrike">
                <a:solidFill>
                  <a:srgbClr val="000000"/>
                </a:solidFill>
                <a:latin typeface="Century Gothic"/>
              </a:rPr>
              <a:t>CAA Centr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E819C-AF5D-4CE6-9D4C-4815C9EA1DFC}" type="slidenum">
              <a:t>8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entury Gothic"/>
              </a:rPr>
              <a:t>Utilità: Lista CAA Local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3124080" y="5181480"/>
            <a:ext cx="2286000" cy="533520"/>
          </a:xfrm>
          <a:prstGeom prst="wedgeRectCallout">
            <a:avLst>
              <a:gd name="adj1" fmla="val -57986"/>
              <a:gd name="adj2" fmla="val -185712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3124080" y="5257800"/>
            <a:ext cx="2286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entury Gothic"/>
              </a:rPr>
              <a:t>Cliccare qui  per ottenere il </a:t>
            </a:r>
            <a:r>
              <a:rPr b="1" lang="it-IT" sz="1200" spc="-1" strike="noStrike">
                <a:solidFill>
                  <a:srgbClr val="000000"/>
                </a:solidFill>
                <a:latin typeface="Century Gothic"/>
              </a:rPr>
              <a:t>dettaglio</a:t>
            </a:r>
            <a:r>
              <a:rPr b="0" lang="it-IT" sz="1200" spc="-1" strike="noStrike">
                <a:solidFill>
                  <a:srgbClr val="000000"/>
                </a:solidFill>
                <a:latin typeface="Century Gothic"/>
              </a:rPr>
              <a:t> del CAA Loc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517FD-3AC3-4EF4-9E87-DABA2A6CC06E}" type="slidenum">
              <a:t>8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1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entury Gothic"/>
              </a:rPr>
              <a:t>Utilità: CAA Loca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5791320" y="2438280"/>
            <a:ext cx="1904760" cy="685800"/>
          </a:xfrm>
          <a:prstGeom prst="wedgeRectCallout">
            <a:avLst>
              <a:gd name="adj1" fmla="val -43666"/>
              <a:gd name="adj2" fmla="val 87268"/>
            </a:avLst>
          </a:prstGeom>
          <a:solidFill>
            <a:srgbClr val="e5f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5791320" y="251460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Informazioni dettagliate del CAA Loc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07C06-2CB0-437D-9D43-9D3BCA91E84C}" type="slidenum">
              <a:t>8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entury Gothic"/>
              </a:rPr>
              <a:t>Procedura di accesso all’Anagraf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514600" y="3200400"/>
            <a:ext cx="5181480" cy="2514600"/>
          </a:xfrm>
          <a:prstGeom prst="upArrowCallout">
            <a:avLst>
              <a:gd name="adj1" fmla="val 51519"/>
              <a:gd name="adj2" fmla="val 51514"/>
              <a:gd name="adj3" fmla="val 16667"/>
              <a:gd name="adj4" fmla="val 66660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590920" y="4114800"/>
            <a:ext cx="5029200" cy="177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entury Gothic"/>
              </a:rPr>
              <a:t>Standard di codifica al 1° collegament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Century Gothic"/>
              </a:rPr>
              <a:t>Codice utente</a:t>
            </a:r>
            <a:r>
              <a:rPr b="0" lang="it-IT" sz="1200" spc="-1" strike="noStrike">
                <a:solidFill>
                  <a:srgbClr val="000000"/>
                </a:solidFill>
                <a:latin typeface="Century Gothic"/>
              </a:rPr>
              <a:t>: Iniziale del Nome + Cogno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Century Gothic"/>
              </a:rPr>
              <a:t>Password</a:t>
            </a:r>
            <a:r>
              <a:rPr b="0" lang="it-IT" sz="1200" spc="-1" strike="noStrike">
                <a:solidFill>
                  <a:srgbClr val="000000"/>
                </a:solidFill>
                <a:latin typeface="Century Gothic"/>
              </a:rPr>
              <a:t>: (primi 3 + ultimi 3) caratteri Codice Fiscale  +  _1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 u="sng">
                <a:solidFill>
                  <a:srgbClr val="000000"/>
                </a:solidFill>
                <a:uFillTx/>
                <a:latin typeface="Century Gothic"/>
              </a:rPr>
              <a:t>Attenzione</a:t>
            </a:r>
            <a:r>
              <a:rPr b="0" lang="it-IT" sz="1200" spc="-1" strike="noStrike">
                <a:solidFill>
                  <a:srgbClr val="000000"/>
                </a:solidFill>
                <a:latin typeface="Century Gothic"/>
              </a:rPr>
              <a:t>: 8 caratteri compreso un carattere numerico e un carattere speci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entury Gothic"/>
              </a:rPr>
              <a:t>(esempio:  CRAGAZZINI   ,  RGZ02G_1  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248520" y="1371600"/>
            <a:ext cx="2133360" cy="914400"/>
          </a:xfrm>
          <a:prstGeom prst="wedgeRectCallout">
            <a:avLst>
              <a:gd name="adj1" fmla="val -32439"/>
              <a:gd name="adj2" fmla="val 12328"/>
            </a:avLst>
          </a:prstGeom>
          <a:solidFill>
            <a:srgbClr val="e5f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248520" y="14479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N.B. Sono consentiti al massimo 3 tentativi di accesso all’Anagrafe consecutivi e  non valid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0BC8F-8B00-454B-B4F8-4513ADA03EC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26T07:24:27Z</dcterms:created>
  <dc:creator>UTENTE</dc:creator>
  <dc:description/>
  <dc:language>en-US</dc:language>
  <cp:lastModifiedBy>Regione Emilia-Romagna</cp:lastModifiedBy>
  <cp:lastPrinted>2004-03-09T09:46:02Z</cp:lastPrinted>
  <dcterms:modified xsi:type="dcterms:W3CDTF">2007-05-08T14:46:39Z</dcterms:modified>
  <cp:revision>1010</cp:revision>
  <dc:subject/>
  <dc:title>Nessun titolo diapositiva</dc:title>
</cp:coreProperties>
</file>